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2.jpeg" ContentType="image/jpeg"/>
  <Override PartName="/ppt/media/image15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3.jpeg" ContentType="image/jpeg"/>
  <Override PartName="/ppt/media/image30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40.gif" ContentType="image/gif"/>
  <Override PartName="/ppt/media/image43.png" ContentType="image/png"/>
  <Override PartName="/ppt/media/image35.png" ContentType="image/png"/>
  <Override PartName="/ppt/media/image5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media/suction.wav" ContentType="audio/x-wav"/>
  <Override PartName="/ppt/media/image42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6.wmf" ContentType="image/x-wmf"/>
  <Override PartName="/ppt/media/image45.jpeg" ContentType="image/jpeg"/>
  <Override PartName="/ppt/media/image7.png" ContentType="image/png"/>
  <Override PartName="/ppt/media/image44.gif" ContentType="image/gif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2.jpeg" ContentType="image/jpeg"/>
  <Override PartName="/ppt/media/image34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77BAA-A616-4B72-BD8D-D2BC1F7BD7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25A5-5D6D-4BFD-BBC2-497D38D4A0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756B-AD29-4BC5-A823-2728FA0BA7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8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D136-D89F-4297-B0A1-E0F71B18D0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03BE-5F88-4C9F-9345-45B6833B2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9F2-0A6F-4092-96E4-8D07C1C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8B8-EF99-4586-AEA0-0CC9884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37CF-F24D-4696-882C-FC78480F5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7106-0D5D-45B3-9825-8AA22ED8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4FA-D654-4B5A-8D98-61358AD1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0AB3-03F0-4787-A9EF-AB7A1AA3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7C31-D27E-45B3-B42B-EA98033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DCA8-17FE-4D64-B3D5-F3067F9C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8D0A-F640-45CD-8CDF-AE901F09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77C-B2A6-4213-8614-F82B2F4D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CA42-21C0-43CA-A3A3-2BAA93D5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65FB-76C7-43F4-8E1B-931C9052D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7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gif"/><Relationship Id="rId9" Type="http://schemas.openxmlformats.org/officeDocument/2006/relationships/image" Target="../media/image28.jpe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gif"/><Relationship Id="rId13" Type="http://schemas.openxmlformats.org/officeDocument/2006/relationships/image" Target="../media/image41.png"/><Relationship Id="rId1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suction.wav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image" Target="../media/image45.jpe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7.png"/><Relationship Id="rId4" Type="http://schemas.openxmlformats.org/officeDocument/2006/relationships/image" Target="../media/image15.gif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mult-37"/>
          <p:cNvPicPr/>
          <p:nvPr/>
        </p:nvPicPr>
        <p:blipFill>
          <a:blip r:embed="rId2"/>
          <a:stretch/>
        </p:blipFill>
        <p:spPr>
          <a:xfrm>
            <a:off x="2143080" y="2000160"/>
            <a:ext cx="5160960" cy="417060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1547640" y="907920"/>
            <a:ext cx="691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80"/>
                </a:solidFill>
                <a:latin typeface="Arial Black"/>
              </a:rPr>
              <a:t>Математика 1 класс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Line 13"/>
          <p:cNvSpPr/>
          <p:nvPr/>
        </p:nvSpPr>
        <p:spPr>
          <a:xfrm>
            <a:off x="2700360" y="549360"/>
            <a:ext cx="2160720" cy="15112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8"/>
          <p:cNvSpPr/>
          <p:nvPr/>
        </p:nvSpPr>
        <p:spPr>
          <a:xfrm>
            <a:off x="5327640" y="728640"/>
            <a:ext cx="2532240" cy="2629080"/>
          </a:xfrm>
          <a:custGeom>
            <a:avLst/>
            <a:gdLst>
              <a:gd name="textAreaLeft" fmla="*/ 0 w 2532240"/>
              <a:gd name="textAreaRight" fmla="*/ 2532600 w 2532240"/>
              <a:gd name="textAreaTop" fmla="*/ 0 h 2629080"/>
              <a:gd name="textAreaBottom" fmla="*/ 2629440 h 2629080"/>
            </a:gdLst>
            <a:ahLst/>
            <a:rect l="textAreaLeft" t="textAreaTop" r="textAreaRight" b="textAreaBottom"/>
            <a:pathLst>
              <a:path w="1595" h="1656">
                <a:moveTo>
                  <a:pt x="1474" y="340"/>
                </a:moveTo>
                <a:cubicBezTo>
                  <a:pt x="854" y="170"/>
                  <a:pt x="235" y="0"/>
                  <a:pt x="250" y="113"/>
                </a:cubicBezTo>
                <a:cubicBezTo>
                  <a:pt x="265" y="226"/>
                  <a:pt x="1595" y="930"/>
                  <a:pt x="1565" y="1021"/>
                </a:cubicBezTo>
                <a:cubicBezTo>
                  <a:pt x="1535" y="1112"/>
                  <a:pt x="136" y="552"/>
                  <a:pt x="68" y="658"/>
                </a:cubicBezTo>
                <a:cubicBezTo>
                  <a:pt x="0" y="764"/>
                  <a:pt x="976" y="1490"/>
                  <a:pt x="1157" y="1656"/>
                </a:cubicBez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7"/>
          <p:cNvSpPr/>
          <p:nvPr/>
        </p:nvSpPr>
        <p:spPr>
          <a:xfrm rot="800400">
            <a:off x="1882440" y="2370240"/>
            <a:ext cx="1871640" cy="78084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28"/>
          <p:cNvSpPr/>
          <p:nvPr/>
        </p:nvSpPr>
        <p:spPr>
          <a:xfrm flipV="1">
            <a:off x="2556000" y="4653000"/>
            <a:ext cx="863640" cy="1008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3419640" y="4653000"/>
            <a:ext cx="79200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 flipV="1">
            <a:off x="4211640" y="4653000"/>
            <a:ext cx="792000" cy="936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1"/>
          <p:cNvSpPr/>
          <p:nvPr/>
        </p:nvSpPr>
        <p:spPr>
          <a:xfrm>
            <a:off x="5003640" y="4653000"/>
            <a:ext cx="863640" cy="863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38"/>
          <p:cNvSpPr/>
          <p:nvPr/>
        </p:nvSpPr>
        <p:spPr>
          <a:xfrm>
            <a:off x="5076720" y="371628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41"/>
          <p:cNvSpPr/>
          <p:nvPr/>
        </p:nvSpPr>
        <p:spPr>
          <a:xfrm>
            <a:off x="5508720" y="364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3"/>
          <p:cNvSpPr/>
          <p:nvPr/>
        </p:nvSpPr>
        <p:spPr>
          <a:xfrm flipV="1">
            <a:off x="5148360" y="2781000"/>
            <a:ext cx="0" cy="934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4"/>
          <p:cNvSpPr/>
          <p:nvPr/>
        </p:nvSpPr>
        <p:spPr>
          <a:xfrm flipH="1" flipV="1">
            <a:off x="2267640" y="4149000"/>
            <a:ext cx="142920" cy="1429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5"/>
          <p:cNvSpPr/>
          <p:nvPr/>
        </p:nvSpPr>
        <p:spPr>
          <a:xfrm>
            <a:off x="2411280" y="4221000"/>
            <a:ext cx="1368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46"/>
          <p:cNvSpPr/>
          <p:nvPr/>
        </p:nvSpPr>
        <p:spPr>
          <a:xfrm flipV="1">
            <a:off x="3780000" y="4149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3226320" y="1253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722680" y="3197880"/>
            <a:ext cx="45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3081960" y="3845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4666320" y="326916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7474320" y="262152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2"/>
          <p:cNvSpPr/>
          <p:nvPr/>
        </p:nvSpPr>
        <p:spPr>
          <a:xfrm>
            <a:off x="4523400" y="54298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4"/>
          <p:cNvSpPr/>
          <p:nvPr/>
        </p:nvSpPr>
        <p:spPr>
          <a:xfrm>
            <a:off x="2484360" y="5589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55"/>
          <p:cNvSpPr/>
          <p:nvPr/>
        </p:nvSpPr>
        <p:spPr>
          <a:xfrm>
            <a:off x="3348000" y="4581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56"/>
          <p:cNvSpPr/>
          <p:nvPr/>
        </p:nvSpPr>
        <p:spPr>
          <a:xfrm>
            <a:off x="4140360" y="551664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57"/>
          <p:cNvSpPr/>
          <p:nvPr/>
        </p:nvSpPr>
        <p:spPr>
          <a:xfrm>
            <a:off x="4932360" y="458136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58"/>
          <p:cNvSpPr/>
          <p:nvPr/>
        </p:nvSpPr>
        <p:spPr>
          <a:xfrm>
            <a:off x="5796000" y="544500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6" descr="чел.JPG"/>
          <p:cNvPicPr/>
          <p:nvPr/>
        </p:nvPicPr>
        <p:blipFill>
          <a:blip r:embed="rId2"/>
          <a:stretch/>
        </p:blipFill>
        <p:spPr>
          <a:xfrm>
            <a:off x="0" y="189000"/>
            <a:ext cx="172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Line 11"/>
          <p:cNvSpPr/>
          <p:nvPr/>
        </p:nvSpPr>
        <p:spPr>
          <a:xfrm flipV="1">
            <a:off x="2484360" y="3573000"/>
            <a:ext cx="100800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3492360" y="3573360"/>
            <a:ext cx="93528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 flipV="1">
            <a:off x="4427640" y="3573000"/>
            <a:ext cx="86508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5292720" y="3645000"/>
            <a:ext cx="1150920" cy="158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7"/>
          <p:cNvSpPr/>
          <p:nvPr/>
        </p:nvSpPr>
        <p:spPr>
          <a:xfrm>
            <a:off x="3762360" y="134100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вершины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2"/>
          <p:cNvSpPr/>
          <p:nvPr/>
        </p:nvSpPr>
        <p:spPr>
          <a:xfrm flipH="1">
            <a:off x="3563640" y="21337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3"/>
          <p:cNvSpPr/>
          <p:nvPr/>
        </p:nvSpPr>
        <p:spPr>
          <a:xfrm>
            <a:off x="4427640" y="2133720"/>
            <a:ext cx="865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4"/>
          <p:cNvSpPr/>
          <p:nvPr/>
        </p:nvSpPr>
        <p:spPr>
          <a:xfrm>
            <a:off x="3348000" y="350028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5"/>
          <p:cNvSpPr/>
          <p:nvPr/>
        </p:nvSpPr>
        <p:spPr>
          <a:xfrm>
            <a:off x="2340000" y="508464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6"/>
          <p:cNvSpPr/>
          <p:nvPr/>
        </p:nvSpPr>
        <p:spPr>
          <a:xfrm>
            <a:off x="4284720" y="508464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7"/>
          <p:cNvSpPr/>
          <p:nvPr/>
        </p:nvSpPr>
        <p:spPr>
          <a:xfrm>
            <a:off x="5219640" y="350028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28"/>
          <p:cNvSpPr/>
          <p:nvPr/>
        </p:nvSpPr>
        <p:spPr>
          <a:xfrm>
            <a:off x="6372360" y="5084640"/>
            <a:ext cx="21564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3708360" y="5589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в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2"/>
          <p:cNvSpPr/>
          <p:nvPr/>
        </p:nvSpPr>
        <p:spPr>
          <a:xfrm flipH="1" flipV="1">
            <a:off x="2842920" y="4797000"/>
            <a:ext cx="1152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3"/>
          <p:cNvSpPr/>
          <p:nvPr/>
        </p:nvSpPr>
        <p:spPr>
          <a:xfrm flipV="1">
            <a:off x="4716360" y="4941720"/>
            <a:ext cx="1079640" cy="719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6" descr="чел.JPG"/>
          <p:cNvPicPr/>
          <p:nvPr/>
        </p:nvPicPr>
        <p:blipFill>
          <a:blip r:embed="rId2"/>
          <a:stretch/>
        </p:blipFill>
        <p:spPr>
          <a:xfrm>
            <a:off x="1692360" y="1052640"/>
            <a:ext cx="1728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Line 11"/>
          <p:cNvSpPr/>
          <p:nvPr/>
        </p:nvSpPr>
        <p:spPr>
          <a:xfrm>
            <a:off x="3500280" y="3643200"/>
            <a:ext cx="1857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>
            <a:off x="2643120" y="5000760"/>
            <a:ext cx="1714680" cy="428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5"/>
          <p:cNvSpPr/>
          <p:nvPr/>
        </p:nvSpPr>
        <p:spPr>
          <a:xfrm flipV="1">
            <a:off x="4500720" y="5214600"/>
            <a:ext cx="2000160" cy="214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6"/>
          <p:cNvSpPr/>
          <p:nvPr/>
        </p:nvSpPr>
        <p:spPr>
          <a:xfrm flipH="1">
            <a:off x="6443280" y="4143240"/>
            <a:ext cx="57240" cy="108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7"/>
          <p:cNvSpPr/>
          <p:nvPr/>
        </p:nvSpPr>
        <p:spPr>
          <a:xfrm>
            <a:off x="3762360" y="1341000"/>
            <a:ext cx="239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 Black"/>
              </a:rPr>
              <a:t>вершины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2"/>
          <p:cNvSpPr/>
          <p:nvPr/>
        </p:nvSpPr>
        <p:spPr>
          <a:xfrm flipH="1">
            <a:off x="3563640" y="2133720"/>
            <a:ext cx="863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3"/>
          <p:cNvSpPr/>
          <p:nvPr/>
        </p:nvSpPr>
        <p:spPr>
          <a:xfrm>
            <a:off x="4427640" y="2133720"/>
            <a:ext cx="865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26"/>
          <p:cNvSpPr/>
          <p:nvPr/>
        </p:nvSpPr>
        <p:spPr>
          <a:xfrm>
            <a:off x="4286160" y="528624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28"/>
          <p:cNvSpPr/>
          <p:nvPr/>
        </p:nvSpPr>
        <p:spPr>
          <a:xfrm>
            <a:off x="6372360" y="5084640"/>
            <a:ext cx="21564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708360" y="558900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звен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32"/>
          <p:cNvSpPr/>
          <p:nvPr/>
        </p:nvSpPr>
        <p:spPr>
          <a:xfrm flipH="1" flipV="1">
            <a:off x="3071880" y="5214600"/>
            <a:ext cx="9288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33"/>
          <p:cNvSpPr/>
          <p:nvPr/>
        </p:nvSpPr>
        <p:spPr>
          <a:xfrm flipV="1">
            <a:off x="4572000" y="5357880"/>
            <a:ext cx="1285920" cy="428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Рисунок 6" descr="чел.JPG"/>
          <p:cNvPicPr/>
          <p:nvPr/>
        </p:nvPicPr>
        <p:blipFill>
          <a:blip r:embed="rId2"/>
          <a:stretch/>
        </p:blipFill>
        <p:spPr>
          <a:xfrm>
            <a:off x="1692360" y="1052640"/>
            <a:ext cx="1728720" cy="2438280"/>
          </a:xfrm>
          <a:prstGeom prst="rect">
            <a:avLst/>
          </a:prstGeom>
          <a:ln w="0">
            <a:noFill/>
          </a:ln>
        </p:spPr>
      </p:pic>
      <p:sp>
        <p:nvSpPr>
          <p:cNvPr id="172" name="TextBox 17"/>
          <p:cNvSpPr/>
          <p:nvPr/>
        </p:nvSpPr>
        <p:spPr>
          <a:xfrm>
            <a:off x="6072120" y="2000160"/>
            <a:ext cx="264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Замкнутая ломаная ли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2643120" y="4357800"/>
            <a:ext cx="0" cy="58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5357880" y="3643200"/>
            <a:ext cx="1143000" cy="357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4"/>
          <p:cNvSpPr/>
          <p:nvPr/>
        </p:nvSpPr>
        <p:spPr>
          <a:xfrm>
            <a:off x="2571840" y="4214880"/>
            <a:ext cx="21564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H="1">
            <a:off x="2714400" y="3643200"/>
            <a:ext cx="771480" cy="57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24"/>
          <p:cNvSpPr/>
          <p:nvPr/>
        </p:nvSpPr>
        <p:spPr>
          <a:xfrm>
            <a:off x="3348000" y="350028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7"/>
          <p:cNvSpPr/>
          <p:nvPr/>
        </p:nvSpPr>
        <p:spPr>
          <a:xfrm>
            <a:off x="5219640" y="350028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24"/>
          <p:cNvSpPr/>
          <p:nvPr/>
        </p:nvSpPr>
        <p:spPr>
          <a:xfrm>
            <a:off x="6429240" y="3929040"/>
            <a:ext cx="216000" cy="2160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4"/>
          <p:cNvSpPr/>
          <p:nvPr/>
        </p:nvSpPr>
        <p:spPr>
          <a:xfrm>
            <a:off x="2500200" y="4857840"/>
            <a:ext cx="216000" cy="215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295280" y="9907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Sakha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2500200" y="3143160"/>
            <a:ext cx="1428840" cy="1214640"/>
          </a:xfrm>
          <a:custGeom>
            <a:avLst/>
            <a:gdLst>
              <a:gd name="textAreaLeft" fmla="*/ 297720 w 1428840"/>
              <a:gd name="textAreaRight" fmla="*/ 1131120 w 1428840"/>
              <a:gd name="textAreaTop" fmla="*/ 253080 h 1214640"/>
              <a:gd name="textAreaBottom" fmla="*/ 961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ff33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5715000" y="1928880"/>
            <a:ext cx="1214280" cy="114300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ff7c80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7"/>
          <p:cNvSpPr/>
          <p:nvPr/>
        </p:nvSpPr>
        <p:spPr>
          <a:xfrm>
            <a:off x="5643720" y="3643200"/>
            <a:ext cx="1643040" cy="1190880"/>
          </a:xfrm>
          <a:prstGeom prst="hexagon">
            <a:avLst>
              <a:gd name="adj" fmla="val 29995"/>
              <a:gd name="vf" fmla="val 115470"/>
            </a:avLst>
          </a:prstGeom>
          <a:gradFill rotWithShape="0">
            <a:gsLst>
              <a:gs pos="0">
                <a:srgbClr val="bbe0e3"/>
              </a:gs>
              <a:gs pos="50000">
                <a:srgbClr val="ff3300"/>
              </a:gs>
              <a:gs pos="100000">
                <a:srgbClr val="bbe0e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8"/>
          <p:cNvSpPr/>
          <p:nvPr/>
        </p:nvSpPr>
        <p:spPr>
          <a:xfrm>
            <a:off x="3500280" y="1785960"/>
            <a:ext cx="1214640" cy="1071720"/>
          </a:xfrm>
          <a:prstGeom prst="pentag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4714920" y="5072040"/>
            <a:ext cx="1547640" cy="1128600"/>
          </a:xfrm>
          <a:prstGeom prst="parallelogram">
            <a:avLst>
              <a:gd name="adj" fmla="val 25001"/>
            </a:avLst>
          </a:prstGeom>
          <a:gradFill rotWithShape="0">
            <a:gsLst>
              <a:gs pos="0">
                <a:srgbClr val="33ccff"/>
              </a:gs>
              <a:gs pos="50000">
                <a:srgbClr val="ff7c80"/>
              </a:gs>
              <a:gs pos="100000">
                <a:srgbClr val="33c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4214880" y="3071880"/>
            <a:ext cx="1357200" cy="1357200"/>
          </a:xfrm>
          <a:prstGeom prst="rtTriangl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87"/>
          <p:cNvSpPr/>
          <p:nvPr/>
        </p:nvSpPr>
        <p:spPr>
          <a:xfrm>
            <a:off x="2643120" y="4643280"/>
            <a:ext cx="1428840" cy="15004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88"/>
          <p:cNvSpPr/>
          <p:nvPr/>
        </p:nvSpPr>
        <p:spPr>
          <a:xfrm>
            <a:off x="7358040" y="1785960"/>
            <a:ext cx="1071720" cy="2071800"/>
          </a:xfrm>
          <a:prstGeom prst="diamond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1"/>
          <p:cNvSpPr/>
          <p:nvPr/>
        </p:nvSpPr>
        <p:spPr>
          <a:xfrm>
            <a:off x="2928960" y="928800"/>
            <a:ext cx="514332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Sakha"/>
                <a:ea typeface="Times New Roman"/>
              </a:rPr>
              <a:t>Многоуголь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ая соединительная линия 13"/>
          <p:cNvSpPr/>
          <p:nvPr/>
        </p:nvSpPr>
        <p:spPr>
          <a:xfrm>
            <a:off x="-428760" y="785880"/>
            <a:ext cx="914400" cy="9144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" descr=""/>
          <p:cNvPicPr/>
          <p:nvPr/>
        </p:nvPicPr>
        <p:blipFill>
          <a:blip r:embed="rId2"/>
          <a:stretch/>
        </p:blipFill>
        <p:spPr>
          <a:xfrm>
            <a:off x="0" y="0"/>
            <a:ext cx="242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7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переход"/>
          <p:cNvPicPr/>
          <p:nvPr/>
        </p:nvPicPr>
        <p:blipFill>
          <a:blip r:embed="rId2"/>
          <a:stretch/>
        </p:blipFill>
        <p:spPr>
          <a:xfrm>
            <a:off x="684360" y="620640"/>
            <a:ext cx="7416720" cy="4969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D:\картинки\детские картинки-блестяшки анимашки\11abbf1373b4.png"/>
          <p:cNvPicPr/>
          <p:nvPr/>
        </p:nvPicPr>
        <p:blipFill>
          <a:blip r:embed="rId3"/>
          <a:stretch/>
        </p:blipFill>
        <p:spPr>
          <a:xfrm>
            <a:off x="214200" y="2714760"/>
            <a:ext cx="1041480" cy="1455480"/>
          </a:xfrm>
          <a:prstGeom prst="rect">
            <a:avLst/>
          </a:prstGeom>
          <a:ln w="0">
            <a:noFill/>
          </a:ln>
        </p:spPr>
      </p:pic>
      <p:sp>
        <p:nvSpPr>
          <p:cNvPr id="195" name="TextBox 4"/>
          <p:cNvSpPr/>
          <p:nvPr/>
        </p:nvSpPr>
        <p:spPr>
          <a:xfrm>
            <a:off x="2357280" y="-142920"/>
            <a:ext cx="657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entury Schoolbook"/>
              </a:rPr>
              <a:t>Улица Отгад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Увеличить"/>
          <p:cNvPicPr/>
          <p:nvPr/>
        </p:nvPicPr>
        <p:blipFill>
          <a:blip r:embed="rId4"/>
          <a:stretch/>
        </p:blipFill>
        <p:spPr>
          <a:xfrm>
            <a:off x="3500280" y="4462560"/>
            <a:ext cx="1214640" cy="21812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D:\МАМА\детские презентации\азбука\авто\479358bc112c.gif"/>
          <p:cNvPicPr/>
          <p:nvPr/>
        </p:nvPicPr>
        <p:blipFill>
          <a:blip r:embed="rId5"/>
          <a:stretch/>
        </p:blipFill>
        <p:spPr>
          <a:xfrm>
            <a:off x="500040" y="1816200"/>
            <a:ext cx="2500200" cy="12920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" descr="D:\МАМА\детские презентации\азбука\avto\95CHEROK.png"/>
          <p:cNvPicPr/>
          <p:nvPr/>
        </p:nvPicPr>
        <p:blipFill>
          <a:blip r:embed="rId6"/>
          <a:stretch/>
        </p:blipFill>
        <p:spPr>
          <a:xfrm>
            <a:off x="6014880" y="1785960"/>
            <a:ext cx="2557800" cy="1347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D:\МАМА\клипарт\7e8dcf5aab33.png"/>
          <p:cNvPicPr/>
          <p:nvPr/>
        </p:nvPicPr>
        <p:blipFill>
          <a:blip r:embed="rId7"/>
          <a:stretch/>
        </p:blipFill>
        <p:spPr>
          <a:xfrm>
            <a:off x="7848720" y="2286000"/>
            <a:ext cx="1054080" cy="18748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C:\Documents and Settings\Admin\Рабочий стол\174.gif"/>
          <p:cNvPicPr/>
          <p:nvPr/>
        </p:nvPicPr>
        <p:blipFill>
          <a:blip r:embed="rId8"/>
          <a:stretch/>
        </p:blipFill>
        <p:spPr>
          <a:xfrm>
            <a:off x="3929040" y="500040"/>
            <a:ext cx="984240" cy="17542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9"/>
          <a:stretch/>
        </p:blipFill>
        <p:spPr>
          <a:xfrm>
            <a:off x="-181080" y="0"/>
            <a:ext cx="9325080" cy="70009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 txBox="1"/>
          <p:nvPr/>
        </p:nvSpPr>
        <p:spPr>
          <a:xfrm>
            <a:off x="5003640" y="333360"/>
            <a:ext cx="41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ица Отгадайка</a:t>
            </a:r>
            <a:endParaRPr b="0" lang="en-US" sz="1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 (688x493, 13Kb)"/>
          <p:cNvPicPr/>
          <p:nvPr/>
        </p:nvPicPr>
        <p:blipFill>
          <a:blip r:embed="rId2"/>
          <a:stretch/>
        </p:blipFill>
        <p:spPr>
          <a:xfrm>
            <a:off x="2268360" y="1700280"/>
            <a:ext cx="4392720" cy="31464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 (463x503, 9Kb)"/>
          <p:cNvPicPr/>
          <p:nvPr/>
        </p:nvPicPr>
        <p:blipFill>
          <a:blip r:embed="rId3"/>
          <a:stretch/>
        </p:blipFill>
        <p:spPr>
          <a:xfrm>
            <a:off x="755640" y="404640"/>
            <a:ext cx="1874880" cy="20368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 (400x462, 8Kb)"/>
          <p:cNvPicPr/>
          <p:nvPr/>
        </p:nvPicPr>
        <p:blipFill>
          <a:blip r:embed="rId4"/>
          <a:stretch/>
        </p:blipFill>
        <p:spPr>
          <a:xfrm>
            <a:off x="5867280" y="4653000"/>
            <a:ext cx="1751040" cy="2022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 (403x563, 8Kb)"/>
          <p:cNvPicPr/>
          <p:nvPr/>
        </p:nvPicPr>
        <p:blipFill>
          <a:blip r:embed="rId5"/>
          <a:stretch/>
        </p:blipFill>
        <p:spPr>
          <a:xfrm>
            <a:off x="569880" y="3357720"/>
            <a:ext cx="2330640" cy="32558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8" descr=" (402x566, 9Kb)"/>
          <p:cNvPicPr/>
          <p:nvPr/>
        </p:nvPicPr>
        <p:blipFill>
          <a:blip r:embed="rId6"/>
          <a:stretch/>
        </p:blipFill>
        <p:spPr>
          <a:xfrm>
            <a:off x="6969240" y="620640"/>
            <a:ext cx="1379520" cy="1656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 (592x391, 14Kb)"/>
          <p:cNvPicPr/>
          <p:nvPr/>
        </p:nvPicPr>
        <p:blipFill>
          <a:blip r:embed="rId7"/>
          <a:stretch/>
        </p:blipFill>
        <p:spPr>
          <a:xfrm>
            <a:off x="9685440" y="6669000"/>
            <a:ext cx="3743280" cy="2254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 (592x391, 14Kb)"/>
          <p:cNvPicPr/>
          <p:nvPr/>
        </p:nvPicPr>
        <p:blipFill>
          <a:blip r:embed="rId8"/>
          <a:stretch/>
        </p:blipFill>
        <p:spPr>
          <a:xfrm>
            <a:off x="-3565440" y="5157720"/>
            <a:ext cx="3384360" cy="2254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3" descr=" (354x572, 10Kb)"/>
          <p:cNvPicPr/>
          <p:nvPr/>
        </p:nvPicPr>
        <p:blipFill>
          <a:blip r:embed="rId9"/>
          <a:stretch/>
        </p:blipFill>
        <p:spPr>
          <a:xfrm>
            <a:off x="3276720" y="1341360"/>
            <a:ext cx="3052800" cy="3878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 (366x515, 7Kb)"/>
          <p:cNvPicPr/>
          <p:nvPr/>
        </p:nvPicPr>
        <p:blipFill>
          <a:blip r:embed="rId10"/>
          <a:stretch/>
        </p:blipFill>
        <p:spPr>
          <a:xfrm>
            <a:off x="1979640" y="2852640"/>
            <a:ext cx="1687320" cy="2376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 (403x563, 8Kb)"/>
          <p:cNvPicPr/>
          <p:nvPr/>
        </p:nvPicPr>
        <p:blipFill>
          <a:blip r:embed="rId11"/>
          <a:stretch/>
        </p:blipFill>
        <p:spPr>
          <a:xfrm>
            <a:off x="5364000" y="549360"/>
            <a:ext cx="2703600" cy="38163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sari"/>
          <p:cNvPicPr/>
          <p:nvPr/>
        </p:nvPicPr>
        <p:blipFill>
          <a:blip r:embed="rId12"/>
          <a:stretch/>
        </p:blipFill>
        <p:spPr>
          <a:xfrm>
            <a:off x="2771640" y="2133720"/>
            <a:ext cx="1333800" cy="1895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"/>
          <p:cNvPicPr/>
          <p:nvPr/>
        </p:nvPicPr>
        <p:blipFill>
          <a:blip r:embed="rId1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7000"/>
                            </p:stCondLst>
                            <p:childTnLst>
                              <p:par>
                                <p:cTn id="1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L 0.97344 -0.00093 E">
                                      <p:cBhvr>
                                        <p:cTn id="161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2" nodeType="afterEffect" fill="hold" presetClass="path" presetID="37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59259E-006 L 0.16667 0.20069 C 0.20156 0.24606 0.25399 0.27153 0.30833 0.27153 C 0.37049 0.27153 0.42031 0.24606 0.45521 0.20069 L 0.62205 2.59259E-006 E">
                                      <p:cBhvr>
                                        <p:cTn id="173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500"/>
                            </p:stCondLst>
                            <p:childTnLst>
                              <p:par>
                                <p:cTn id="182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038 0.01713 L -0.60642 0.01713 L -0.60642 0.67338 L -0.03038 0.67338 L -0.03038 0.01713 Z">
                                      <p:cBhvr>
                                        <p:cTn id="183" dur="3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500"/>
                            </p:stCondLst>
                            <p:childTnLst>
                              <p:par>
                                <p:cTn id="1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0000"/>
                            </p:stCondLst>
                            <p:childTnLst>
                              <p:par>
                                <p:cTn id="189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0"/>
                            </p:stCondLst>
                            <p:childTnLst>
                              <p:par>
                                <p:cTn id="1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20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4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4450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75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85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9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5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15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5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3500"/>
                            </p:stCondLst>
                            <p:childTnLst>
                              <p:par>
                                <p:cTn id="2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6500"/>
                            </p:stCondLst>
                            <p:childTnLst>
                              <p:par>
                                <p:cTn id="26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4.81481E-006 L -0.1625 0.11019 E">
                                      <p:cBhvr>
                                        <p:cTn id="262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84000" y="907560"/>
            <a:ext cx="61930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Разбейте фигуры на две группы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2"/>
          <p:cNvSpPr/>
          <p:nvPr/>
        </p:nvSpPr>
        <p:spPr>
          <a:xfrm>
            <a:off x="1116000" y="1844640"/>
            <a:ext cx="5329080" cy="4032360"/>
          </a:xfrm>
          <a:custGeom>
            <a:avLst/>
            <a:gdLst>
              <a:gd name="textAreaLeft" fmla="*/ 0 w 5329080"/>
              <a:gd name="textAreaRight" fmla="*/ 5329440 w 5329080"/>
              <a:gd name="textAreaTop" fmla="*/ 0 h 4032360"/>
              <a:gd name="textAreaBottom" fmla="*/ 4032720 h 4032360"/>
            </a:gdLst>
            <a:ahLst/>
            <a:rect l="textAreaLeft" t="textAreaTop" r="textAreaRight" b="textAreaBottom"/>
            <a:pathLst>
              <a:path w="17006" h="13888">
                <a:moveTo>
                  <a:pt x="14860" y="718"/>
                </a:moveTo>
                <a:cubicBezTo>
                  <a:pt x="14843" y="1239"/>
                  <a:pt x="14859" y="1682"/>
                  <a:pt x="14681" y="2153"/>
                </a:cubicBezTo>
                <a:cubicBezTo>
                  <a:pt x="14503" y="2624"/>
                  <a:pt x="14158" y="3230"/>
                  <a:pt x="14053" y="3722"/>
                </a:cubicBezTo>
                <a:cubicBezTo>
                  <a:pt x="13918" y="4350"/>
                  <a:pt x="13632" y="4438"/>
                  <a:pt x="13649" y="4888"/>
                </a:cubicBezTo>
                <a:cubicBezTo>
                  <a:pt x="13667" y="5364"/>
                  <a:pt x="13407" y="5980"/>
                  <a:pt x="13963" y="6278"/>
                </a:cubicBezTo>
                <a:cubicBezTo>
                  <a:pt x="14408" y="6517"/>
                  <a:pt x="14912" y="6511"/>
                  <a:pt x="15398" y="6682"/>
                </a:cubicBezTo>
                <a:cubicBezTo>
                  <a:pt x="15928" y="6868"/>
                  <a:pt x="16032" y="7428"/>
                  <a:pt x="16340" y="7803"/>
                </a:cubicBezTo>
                <a:cubicBezTo>
                  <a:pt x="16722" y="8269"/>
                  <a:pt x="16670" y="8706"/>
                  <a:pt x="16788" y="9193"/>
                </a:cubicBezTo>
                <a:cubicBezTo>
                  <a:pt x="16912" y="9705"/>
                  <a:pt x="17005" y="10221"/>
                  <a:pt x="16968" y="10763"/>
                </a:cubicBezTo>
                <a:cubicBezTo>
                  <a:pt x="16933" y="11270"/>
                  <a:pt x="16811" y="11817"/>
                  <a:pt x="16430" y="12153"/>
                </a:cubicBezTo>
                <a:cubicBezTo>
                  <a:pt x="16019" y="12515"/>
                  <a:pt x="15525" y="12797"/>
                  <a:pt x="14995" y="12960"/>
                </a:cubicBezTo>
                <a:cubicBezTo>
                  <a:pt x="14506" y="13110"/>
                  <a:pt x="14004" y="13215"/>
                  <a:pt x="13515" y="13364"/>
                </a:cubicBezTo>
                <a:cubicBezTo>
                  <a:pt x="13018" y="13516"/>
                  <a:pt x="12548" y="13790"/>
                  <a:pt x="11990" y="13723"/>
                </a:cubicBezTo>
                <a:cubicBezTo>
                  <a:pt x="11500" y="13664"/>
                  <a:pt x="11002" y="13719"/>
                  <a:pt x="10510" y="13723"/>
                </a:cubicBezTo>
                <a:cubicBezTo>
                  <a:pt x="10001" y="13728"/>
                  <a:pt x="9494" y="13730"/>
                  <a:pt x="8985" y="13767"/>
                </a:cubicBezTo>
                <a:cubicBezTo>
                  <a:pt x="8493" y="13803"/>
                  <a:pt x="7983" y="13887"/>
                  <a:pt x="7505" y="13767"/>
                </a:cubicBezTo>
                <a:cubicBezTo>
                  <a:pt x="6918" y="13619"/>
                  <a:pt x="6331" y="13470"/>
                  <a:pt x="5891" y="12960"/>
                </a:cubicBezTo>
                <a:cubicBezTo>
                  <a:pt x="5494" y="12500"/>
                  <a:pt x="5013" y="12061"/>
                  <a:pt x="4860" y="11480"/>
                </a:cubicBezTo>
                <a:cubicBezTo>
                  <a:pt x="4746" y="11046"/>
                  <a:pt x="4870" y="10586"/>
                  <a:pt x="4904" y="10135"/>
                </a:cubicBezTo>
                <a:cubicBezTo>
                  <a:pt x="4940" y="9656"/>
                  <a:pt x="4969" y="9123"/>
                  <a:pt x="4680" y="8700"/>
                </a:cubicBezTo>
                <a:cubicBezTo>
                  <a:pt x="4390" y="8276"/>
                  <a:pt x="4201" y="7730"/>
                  <a:pt x="3649" y="7534"/>
                </a:cubicBezTo>
                <a:cubicBezTo>
                  <a:pt x="3166" y="7362"/>
                  <a:pt x="2696" y="7166"/>
                  <a:pt x="2214" y="6996"/>
                </a:cubicBezTo>
                <a:cubicBezTo>
                  <a:pt x="1726" y="6824"/>
                  <a:pt x="1146" y="6734"/>
                  <a:pt x="824" y="6323"/>
                </a:cubicBezTo>
                <a:cubicBezTo>
                  <a:pt x="502" y="5912"/>
                  <a:pt x="217" y="5459"/>
                  <a:pt x="106" y="4933"/>
                </a:cubicBezTo>
                <a:cubicBezTo>
                  <a:pt x="0" y="4430"/>
                  <a:pt x="126" y="3915"/>
                  <a:pt x="330" y="3453"/>
                </a:cubicBezTo>
                <a:cubicBezTo>
                  <a:pt x="535" y="2988"/>
                  <a:pt x="660" y="2445"/>
                  <a:pt x="1048" y="2108"/>
                </a:cubicBezTo>
                <a:cubicBezTo>
                  <a:pt x="1452" y="1758"/>
                  <a:pt x="1865" y="1078"/>
                  <a:pt x="2393" y="986"/>
                </a:cubicBezTo>
                <a:cubicBezTo>
                  <a:pt x="2948" y="889"/>
                  <a:pt x="3575" y="1156"/>
                  <a:pt x="4142" y="1166"/>
                </a:cubicBezTo>
                <a:cubicBezTo>
                  <a:pt x="4619" y="1174"/>
                  <a:pt x="5008" y="941"/>
                  <a:pt x="5487" y="941"/>
                </a:cubicBezTo>
                <a:cubicBezTo>
                  <a:pt x="5935" y="941"/>
                  <a:pt x="6115" y="762"/>
                  <a:pt x="6564" y="762"/>
                </a:cubicBezTo>
                <a:cubicBezTo>
                  <a:pt x="7041" y="762"/>
                  <a:pt x="7480" y="787"/>
                  <a:pt x="7954" y="851"/>
                </a:cubicBezTo>
                <a:cubicBezTo>
                  <a:pt x="8544" y="931"/>
                  <a:pt x="9204" y="722"/>
                  <a:pt x="9792" y="851"/>
                </a:cubicBezTo>
                <a:cubicBezTo>
                  <a:pt x="10263" y="955"/>
                  <a:pt x="10794" y="736"/>
                  <a:pt x="11272" y="807"/>
                </a:cubicBezTo>
                <a:cubicBezTo>
                  <a:pt x="11735" y="875"/>
                  <a:pt x="12195" y="607"/>
                  <a:pt x="12663" y="628"/>
                </a:cubicBezTo>
                <a:cubicBezTo>
                  <a:pt x="13244" y="654"/>
                  <a:pt x="14815" y="0"/>
                  <a:pt x="14860" y="1256"/>
                </a:cubicBezTo>
                <a:lnTo>
                  <a:pt x="15084" y="1166"/>
                </a:lnTo>
                <a:lnTo>
                  <a:pt x="14860" y="718"/>
                </a:lnTo>
              </a:path>
            </a:pathLst>
          </a:custGeom>
          <a:noFill/>
          <a:ln w="763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3"/>
          <p:cNvSpPr/>
          <p:nvPr/>
        </p:nvSpPr>
        <p:spPr>
          <a:xfrm>
            <a:off x="5651640" y="1643040"/>
            <a:ext cx="3151080" cy="2459160"/>
          </a:xfrm>
          <a:custGeom>
            <a:avLst/>
            <a:gdLst>
              <a:gd name="textAreaLeft" fmla="*/ 0 w 3151080"/>
              <a:gd name="textAreaRight" fmla="*/ 3151440 w 3151080"/>
              <a:gd name="textAreaTop" fmla="*/ 0 h 2459160"/>
              <a:gd name="textAreaBottom" fmla="*/ 2459520 h 2459160"/>
            </a:gdLst>
            <a:ahLst/>
            <a:rect l="textAreaLeft" t="textAreaTop" r="textAreaRight" b="textAreaBottom"/>
            <a:pathLst>
              <a:path w="9766" h="8122">
                <a:moveTo>
                  <a:pt x="8943" y="6905"/>
                </a:moveTo>
                <a:cubicBezTo>
                  <a:pt x="9166" y="6456"/>
                  <a:pt x="9370" y="6690"/>
                  <a:pt x="9571" y="6232"/>
                </a:cubicBezTo>
                <a:cubicBezTo>
                  <a:pt x="9765" y="5789"/>
                  <a:pt x="9651" y="5312"/>
                  <a:pt x="9705" y="4842"/>
                </a:cubicBezTo>
                <a:cubicBezTo>
                  <a:pt x="9762" y="4352"/>
                  <a:pt x="9761" y="3851"/>
                  <a:pt x="9705" y="3362"/>
                </a:cubicBezTo>
                <a:cubicBezTo>
                  <a:pt x="9642" y="2807"/>
                  <a:pt x="9406" y="2257"/>
                  <a:pt x="9033" y="1837"/>
                </a:cubicBezTo>
                <a:cubicBezTo>
                  <a:pt x="8634" y="1388"/>
                  <a:pt x="8117" y="1044"/>
                  <a:pt x="7553" y="806"/>
                </a:cubicBezTo>
                <a:cubicBezTo>
                  <a:pt x="6995" y="570"/>
                  <a:pt x="6402" y="454"/>
                  <a:pt x="5849" y="223"/>
                </a:cubicBezTo>
                <a:cubicBezTo>
                  <a:pt x="5317" y="0"/>
                  <a:pt x="4898" y="378"/>
                  <a:pt x="4414" y="402"/>
                </a:cubicBezTo>
                <a:cubicBezTo>
                  <a:pt x="3860" y="430"/>
                  <a:pt x="3398" y="765"/>
                  <a:pt x="2934" y="1030"/>
                </a:cubicBezTo>
                <a:cubicBezTo>
                  <a:pt x="2421" y="1323"/>
                  <a:pt x="2135" y="1811"/>
                  <a:pt x="1857" y="2286"/>
                </a:cubicBezTo>
                <a:cubicBezTo>
                  <a:pt x="1538" y="2830"/>
                  <a:pt x="1017" y="3161"/>
                  <a:pt x="692" y="3676"/>
                </a:cubicBezTo>
                <a:cubicBezTo>
                  <a:pt x="432" y="4087"/>
                  <a:pt x="284" y="4643"/>
                  <a:pt x="332" y="5157"/>
                </a:cubicBezTo>
                <a:cubicBezTo>
                  <a:pt x="374" y="5610"/>
                  <a:pt x="0" y="6262"/>
                  <a:pt x="736" y="6322"/>
                </a:cubicBezTo>
                <a:cubicBezTo>
                  <a:pt x="1182" y="6358"/>
                  <a:pt x="1634" y="6322"/>
                  <a:pt x="2082" y="6322"/>
                </a:cubicBezTo>
                <a:cubicBezTo>
                  <a:pt x="2545" y="6322"/>
                  <a:pt x="2951" y="6600"/>
                  <a:pt x="3382" y="6770"/>
                </a:cubicBezTo>
                <a:cubicBezTo>
                  <a:pt x="3952" y="6996"/>
                  <a:pt x="4324" y="7174"/>
                  <a:pt x="4997" y="7264"/>
                </a:cubicBezTo>
                <a:cubicBezTo>
                  <a:pt x="5500" y="7331"/>
                  <a:pt x="6279" y="7834"/>
                  <a:pt x="6790" y="7981"/>
                </a:cubicBezTo>
                <a:cubicBezTo>
                  <a:pt x="7278" y="8121"/>
                  <a:pt x="7641" y="7963"/>
                  <a:pt x="8181" y="7757"/>
                </a:cubicBezTo>
                <a:lnTo>
                  <a:pt x="8943" y="6770"/>
                </a:lnTo>
                <a:lnTo>
                  <a:pt x="9391" y="6277"/>
                </a:lnTo>
                <a:lnTo>
                  <a:pt x="9480" y="6232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7"/>
          <p:cNvSpPr/>
          <p:nvPr/>
        </p:nvSpPr>
        <p:spPr>
          <a:xfrm>
            <a:off x="6072120" y="1857240"/>
            <a:ext cx="1000080" cy="1562400"/>
          </a:xfrm>
          <a:custGeom>
            <a:avLst/>
            <a:gdLst>
              <a:gd name="textAreaLeft" fmla="*/ 0 w 1000080"/>
              <a:gd name="textAreaRight" fmla="*/ 1000440 w 10000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2778" h="5161">
                <a:moveTo>
                  <a:pt x="0" y="5160"/>
                </a:moveTo>
                <a:lnTo>
                  <a:pt x="2777" y="0"/>
                </a:lnTo>
              </a:path>
            </a:pathLst>
          </a:custGeom>
          <a:noFill/>
          <a:ln w="2880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8"/>
          <p:cNvSpPr/>
          <p:nvPr/>
        </p:nvSpPr>
        <p:spPr>
          <a:xfrm>
            <a:off x="6929280" y="2643120"/>
            <a:ext cx="1498680" cy="80172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801720"/>
              <a:gd name="textAreaBottom" fmla="*/ 802080 h 801720"/>
            </a:gdLst>
            <a:ahLst/>
            <a:rect l="textAreaLeft" t="textAreaTop" r="textAreaRight" b="textAreaBottom"/>
            <a:pathLst>
              <a:path w="4163" h="2649">
                <a:moveTo>
                  <a:pt x="0" y="0"/>
                </a:moveTo>
                <a:lnTo>
                  <a:pt x="4162" y="2648"/>
                </a:lnTo>
              </a:path>
            </a:pathLst>
          </a:custGeom>
          <a:noFill/>
          <a:ln w="28440">
            <a:solidFill>
              <a:srgbClr val="333333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7"/>
          <p:cNvGrpSpPr/>
          <p:nvPr/>
        </p:nvGrpSpPr>
        <p:grpSpPr>
          <a:xfrm>
            <a:off x="1619280" y="2357280"/>
            <a:ext cx="3965040" cy="3084480"/>
            <a:chOff x="1619280" y="2357280"/>
            <a:chExt cx="3965040" cy="3084480"/>
          </a:xfrm>
        </p:grpSpPr>
        <p:sp>
          <p:nvSpPr>
            <p:cNvPr id="221" name="Freeform 4"/>
            <p:cNvSpPr/>
            <p:nvPr/>
          </p:nvSpPr>
          <p:spPr>
            <a:xfrm>
              <a:off x="3555000" y="2644200"/>
              <a:ext cx="534240" cy="915840"/>
            </a:xfrm>
            <a:custGeom>
              <a:avLst/>
              <a:gdLst>
                <a:gd name="textAreaLeft" fmla="*/ 0 w 534240"/>
                <a:gd name="textAreaRight" fmla="*/ 534600 w 534240"/>
                <a:gd name="textAreaTop" fmla="*/ 0 h 915840"/>
                <a:gd name="textAreaBottom" fmla="*/ 916200 h 915840"/>
              </a:gdLst>
              <a:ahLst/>
              <a:rect l="textAreaLeft" t="textAreaTop" r="textAreaRight" b="textAreaBottom"/>
              <a:pathLst>
                <a:path w="1663" h="3401">
                  <a:moveTo>
                    <a:pt x="1662" y="0"/>
                  </a:moveTo>
                  <a:lnTo>
                    <a:pt x="0" y="3400"/>
                  </a:lnTo>
                </a:path>
              </a:pathLst>
            </a:custGeom>
            <a:noFill/>
            <a:ln w="36000">
              <a:solidFill>
                <a:srgbClr val="010b0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5"/>
            <p:cNvSpPr/>
            <p:nvPr/>
          </p:nvSpPr>
          <p:spPr>
            <a:xfrm>
              <a:off x="4106520" y="2644200"/>
              <a:ext cx="422280" cy="949680"/>
            </a:xfrm>
            <a:custGeom>
              <a:avLst/>
              <a:gdLst>
                <a:gd name="textAreaLeft" fmla="*/ 0 w 422280"/>
                <a:gd name="textAreaRight" fmla="*/ 422640 w 42228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1607" h="3525">
                  <a:moveTo>
                    <a:pt x="0" y="0"/>
                  </a:moveTo>
                  <a:lnTo>
                    <a:pt x="1606" y="3524"/>
                  </a:lnTo>
                </a:path>
              </a:pathLst>
            </a:custGeom>
            <a:noFill/>
            <a:ln w="36000">
              <a:solidFill>
                <a:srgbClr val="010b0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6"/>
            <p:cNvSpPr/>
            <p:nvPr/>
          </p:nvSpPr>
          <p:spPr>
            <a:xfrm>
              <a:off x="4517640" y="2580480"/>
              <a:ext cx="488520" cy="103356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1804" h="3864">
                  <a:moveTo>
                    <a:pt x="0" y="3863"/>
                  </a:moveTo>
                  <a:lnTo>
                    <a:pt x="1803" y="0"/>
                  </a:lnTo>
                </a:path>
              </a:pathLst>
            </a:custGeom>
            <a:noFill/>
            <a:ln w="36000">
              <a:solidFill>
                <a:srgbClr val="010b0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9"/>
            <p:cNvSpPr/>
            <p:nvPr/>
          </p:nvSpPr>
          <p:spPr>
            <a:xfrm>
              <a:off x="3234960" y="4155480"/>
              <a:ext cx="460440" cy="128628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1286280"/>
                <a:gd name="textAreaBottom" fmla="*/ 1286640 h 1286280"/>
              </a:gdLst>
              <a:ahLst/>
              <a:rect l="textAreaLeft" t="textAreaTop" r="textAreaRight" b="textAreaBottom"/>
              <a:pathLst>
                <a:path w="1432" h="4772">
                  <a:moveTo>
                    <a:pt x="0" y="4771"/>
                  </a:moveTo>
                  <a:lnTo>
                    <a:pt x="1431" y="0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0"/>
            <p:cNvSpPr/>
            <p:nvPr/>
          </p:nvSpPr>
          <p:spPr>
            <a:xfrm>
              <a:off x="3681360" y="4154040"/>
              <a:ext cx="488520" cy="1180440"/>
            </a:xfrm>
            <a:custGeom>
              <a:avLst/>
              <a:gdLst>
                <a:gd name="textAreaLeft" fmla="*/ 0 w 488520"/>
                <a:gd name="textAreaRight" fmla="*/ 488880 w 488520"/>
                <a:gd name="textAreaTop" fmla="*/ 0 h 1180440"/>
                <a:gd name="textAreaBottom" fmla="*/ 1180800 h 1180440"/>
              </a:gdLst>
              <a:ahLst/>
              <a:rect l="textAreaLeft" t="textAreaTop" r="textAreaRight" b="textAreaBottom"/>
              <a:pathLst>
                <a:path w="1520" h="4382">
                  <a:moveTo>
                    <a:pt x="0" y="0"/>
                  </a:moveTo>
                  <a:lnTo>
                    <a:pt x="1519" y="4381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1"/>
            <p:cNvSpPr/>
            <p:nvPr/>
          </p:nvSpPr>
          <p:spPr>
            <a:xfrm>
              <a:off x="4169880" y="3884040"/>
              <a:ext cx="739800" cy="14490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449000"/>
                <a:gd name="textAreaBottom" fmla="*/ 1449360 h 1449000"/>
              </a:gdLst>
              <a:ahLst/>
              <a:rect l="textAreaLeft" t="textAreaTop" r="textAreaRight" b="textAreaBottom"/>
              <a:pathLst>
                <a:path w="2300" h="5379">
                  <a:moveTo>
                    <a:pt x="2299" y="0"/>
                  </a:moveTo>
                  <a:lnTo>
                    <a:pt x="0" y="5378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2"/>
            <p:cNvSpPr/>
            <p:nvPr/>
          </p:nvSpPr>
          <p:spPr>
            <a:xfrm>
              <a:off x="4901400" y="3884040"/>
              <a:ext cx="682920" cy="1344240"/>
            </a:xfrm>
            <a:custGeom>
              <a:avLst/>
              <a:gdLst>
                <a:gd name="textAreaLeft" fmla="*/ 0 w 682920"/>
                <a:gd name="textAreaRight" fmla="*/ 682920 w 682920"/>
                <a:gd name="textAreaTop" fmla="*/ 0 h 1344240"/>
                <a:gd name="textAreaBottom" fmla="*/ 1344600 h 1344240"/>
              </a:gdLst>
              <a:ahLst/>
              <a:rect l="textAreaLeft" t="textAreaTop" r="textAreaRight" b="textAreaBottom"/>
              <a:pathLst>
                <a:path w="2127" h="4989">
                  <a:moveTo>
                    <a:pt x="2126" y="4988"/>
                  </a:moveTo>
                  <a:lnTo>
                    <a:pt x="0" y="0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3"/>
            <p:cNvSpPr/>
            <p:nvPr/>
          </p:nvSpPr>
          <p:spPr>
            <a:xfrm>
              <a:off x="1619280" y="2357280"/>
              <a:ext cx="739800" cy="1449000"/>
            </a:xfrm>
            <a:custGeom>
              <a:avLst/>
              <a:gdLst>
                <a:gd name="textAreaLeft" fmla="*/ 0 w 739800"/>
                <a:gd name="textAreaRight" fmla="*/ 740160 w 739800"/>
                <a:gd name="textAreaTop" fmla="*/ 0 h 1449000"/>
                <a:gd name="textAreaBottom" fmla="*/ 1449360 h 1449000"/>
              </a:gdLst>
              <a:ahLst/>
              <a:rect l="textAreaLeft" t="textAreaTop" r="textAreaRight" b="textAreaBottom"/>
              <a:pathLst>
                <a:path w="2300" h="5379">
                  <a:moveTo>
                    <a:pt x="2299" y="0"/>
                  </a:moveTo>
                  <a:lnTo>
                    <a:pt x="0" y="5378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4"/>
            <p:cNvSpPr/>
            <p:nvPr/>
          </p:nvSpPr>
          <p:spPr>
            <a:xfrm>
              <a:off x="2343240" y="2367000"/>
              <a:ext cx="683280" cy="1344600"/>
            </a:xfrm>
            <a:custGeom>
              <a:avLst/>
              <a:gdLst>
                <a:gd name="textAreaLeft" fmla="*/ 0 w 683280"/>
                <a:gd name="textAreaRight" fmla="*/ 683280 w 68328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2127" h="4989">
                  <a:moveTo>
                    <a:pt x="2126" y="4988"/>
                  </a:moveTo>
                  <a:lnTo>
                    <a:pt x="0" y="0"/>
                  </a:lnTo>
                </a:path>
              </a:pathLst>
            </a:custGeom>
            <a:noFill/>
            <a:ln w="36000">
              <a:solidFill>
                <a:srgbClr val="000000"/>
              </a:solidFill>
              <a:round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907640" y="713880"/>
            <a:ext cx="65516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4000" spc="-1" strike="noStrike">
                <a:solidFill>
                  <a:srgbClr val="000000"/>
                </a:solidFill>
                <a:latin typeface="Arial Black"/>
              </a:rPr>
              <a:t>Две группы. Каки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"/>
          <p:cNvSpPr/>
          <p:nvPr/>
        </p:nvSpPr>
        <p:spPr>
          <a:xfrm flipH="1">
            <a:off x="1522080" y="2190600"/>
            <a:ext cx="66600" cy="117504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3"/>
          <p:cNvSpPr/>
          <p:nvPr/>
        </p:nvSpPr>
        <p:spPr>
          <a:xfrm>
            <a:off x="1547640" y="3357720"/>
            <a:ext cx="1656000" cy="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"/>
          <p:cNvSpPr/>
          <p:nvPr/>
        </p:nvSpPr>
        <p:spPr>
          <a:xfrm>
            <a:off x="2773440" y="1916280"/>
            <a:ext cx="430200" cy="144144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1574640" y="2171880"/>
            <a:ext cx="735120" cy="34272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6"/>
          <p:cNvSpPr/>
          <p:nvPr/>
        </p:nvSpPr>
        <p:spPr>
          <a:xfrm flipH="1">
            <a:off x="2319480" y="1916280"/>
            <a:ext cx="452160" cy="57600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 flipH="1">
            <a:off x="4379760" y="2000160"/>
            <a:ext cx="51120" cy="106380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8"/>
          <p:cNvSpPr/>
          <p:nvPr/>
        </p:nvSpPr>
        <p:spPr>
          <a:xfrm>
            <a:off x="4359240" y="3068640"/>
            <a:ext cx="933480" cy="15408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9"/>
          <p:cNvSpPr/>
          <p:nvPr/>
        </p:nvSpPr>
        <p:spPr>
          <a:xfrm flipV="1">
            <a:off x="4427640" y="1916280"/>
            <a:ext cx="936360" cy="7272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0"/>
          <p:cNvSpPr/>
          <p:nvPr/>
        </p:nvSpPr>
        <p:spPr>
          <a:xfrm flipH="1">
            <a:off x="5292720" y="1916280"/>
            <a:ext cx="71280" cy="129672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1"/>
          <p:cNvSpPr/>
          <p:nvPr/>
        </p:nvSpPr>
        <p:spPr>
          <a:xfrm>
            <a:off x="6548400" y="2021040"/>
            <a:ext cx="1079640" cy="14436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2"/>
          <p:cNvSpPr/>
          <p:nvPr/>
        </p:nvSpPr>
        <p:spPr>
          <a:xfrm flipH="1">
            <a:off x="6516720" y="2178000"/>
            <a:ext cx="1130400" cy="74628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3"/>
          <p:cNvSpPr/>
          <p:nvPr/>
        </p:nvSpPr>
        <p:spPr>
          <a:xfrm>
            <a:off x="6516720" y="2924280"/>
            <a:ext cx="1353960" cy="38880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4"/>
          <p:cNvSpPr/>
          <p:nvPr/>
        </p:nvSpPr>
        <p:spPr>
          <a:xfrm flipH="1">
            <a:off x="3151080" y="4397400"/>
            <a:ext cx="601920" cy="122400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5"/>
          <p:cNvSpPr/>
          <p:nvPr/>
        </p:nvSpPr>
        <p:spPr>
          <a:xfrm>
            <a:off x="3778200" y="4397400"/>
            <a:ext cx="577800" cy="126828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6"/>
          <p:cNvSpPr/>
          <p:nvPr/>
        </p:nvSpPr>
        <p:spPr>
          <a:xfrm flipV="1">
            <a:off x="4354560" y="4240080"/>
            <a:ext cx="649080" cy="139392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7"/>
          <p:cNvSpPr/>
          <p:nvPr/>
        </p:nvSpPr>
        <p:spPr>
          <a:xfrm>
            <a:off x="5861160" y="4246560"/>
            <a:ext cx="1440" cy="122544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8"/>
          <p:cNvSpPr/>
          <p:nvPr/>
        </p:nvSpPr>
        <p:spPr>
          <a:xfrm flipV="1">
            <a:off x="5875200" y="5373360"/>
            <a:ext cx="1505160" cy="74520"/>
          </a:xfrm>
          <a:prstGeom prst="line">
            <a:avLst/>
          </a:prstGeom>
          <a:ln w="36000">
            <a:solidFill>
              <a:srgbClr val="010b0b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9"/>
          <p:cNvSpPr/>
          <p:nvPr/>
        </p:nvSpPr>
        <p:spPr>
          <a:xfrm>
            <a:off x="900000" y="1484280"/>
            <a:ext cx="4843440" cy="2290680"/>
          </a:xfrm>
          <a:custGeom>
            <a:avLst/>
            <a:gdLst>
              <a:gd name="textAreaLeft" fmla="*/ 0 w 4843440"/>
              <a:gd name="textAreaRight" fmla="*/ 4843800 w 4843440"/>
              <a:gd name="textAreaTop" fmla="*/ 0 h 2290680"/>
              <a:gd name="textAreaBottom" fmla="*/ 2291040 h 2290680"/>
            </a:gdLst>
            <a:ahLst/>
            <a:rect l="textAreaLeft" t="textAreaTop" r="textAreaRight" b="textAreaBottom"/>
            <a:pathLst>
              <a:path w="13454" h="6365">
                <a:moveTo>
                  <a:pt x="12736" y="596"/>
                </a:moveTo>
                <a:cubicBezTo>
                  <a:pt x="13064" y="971"/>
                  <a:pt x="13318" y="974"/>
                  <a:pt x="13364" y="1448"/>
                </a:cubicBezTo>
                <a:cubicBezTo>
                  <a:pt x="13409" y="1908"/>
                  <a:pt x="13409" y="2106"/>
                  <a:pt x="13409" y="2569"/>
                </a:cubicBezTo>
                <a:cubicBezTo>
                  <a:pt x="13409" y="3017"/>
                  <a:pt x="13316" y="3423"/>
                  <a:pt x="13364" y="3869"/>
                </a:cubicBezTo>
                <a:cubicBezTo>
                  <a:pt x="13439" y="4567"/>
                  <a:pt x="13219" y="4897"/>
                  <a:pt x="12781" y="4945"/>
                </a:cubicBezTo>
                <a:cubicBezTo>
                  <a:pt x="12309" y="4997"/>
                  <a:pt x="11857" y="5134"/>
                  <a:pt x="11391" y="5214"/>
                </a:cubicBezTo>
                <a:cubicBezTo>
                  <a:pt x="10877" y="5303"/>
                  <a:pt x="10501" y="5628"/>
                  <a:pt x="9956" y="5618"/>
                </a:cubicBezTo>
                <a:cubicBezTo>
                  <a:pt x="9410" y="5608"/>
                  <a:pt x="8963" y="5997"/>
                  <a:pt x="8431" y="6111"/>
                </a:cubicBezTo>
                <a:cubicBezTo>
                  <a:pt x="7973" y="6210"/>
                  <a:pt x="7520" y="6364"/>
                  <a:pt x="7041" y="6335"/>
                </a:cubicBezTo>
                <a:cubicBezTo>
                  <a:pt x="6490" y="6301"/>
                  <a:pt x="6337" y="6291"/>
                  <a:pt x="5785" y="6291"/>
                </a:cubicBezTo>
                <a:cubicBezTo>
                  <a:pt x="5292" y="6291"/>
                  <a:pt x="4395" y="6335"/>
                  <a:pt x="3902" y="6335"/>
                </a:cubicBezTo>
                <a:cubicBezTo>
                  <a:pt x="3364" y="6335"/>
                  <a:pt x="4393" y="6252"/>
                  <a:pt x="3857" y="6291"/>
                </a:cubicBezTo>
                <a:cubicBezTo>
                  <a:pt x="3325" y="6330"/>
                  <a:pt x="1849" y="6316"/>
                  <a:pt x="1480" y="5932"/>
                </a:cubicBezTo>
                <a:cubicBezTo>
                  <a:pt x="1096" y="5533"/>
                  <a:pt x="588" y="5055"/>
                  <a:pt x="538" y="4542"/>
                </a:cubicBezTo>
                <a:cubicBezTo>
                  <a:pt x="490" y="4051"/>
                  <a:pt x="0" y="2883"/>
                  <a:pt x="135" y="2793"/>
                </a:cubicBezTo>
                <a:cubicBezTo>
                  <a:pt x="552" y="2515"/>
                  <a:pt x="644" y="2053"/>
                  <a:pt x="898" y="1627"/>
                </a:cubicBezTo>
                <a:cubicBezTo>
                  <a:pt x="1222" y="1085"/>
                  <a:pt x="1422" y="1021"/>
                  <a:pt x="1884" y="685"/>
                </a:cubicBezTo>
                <a:cubicBezTo>
                  <a:pt x="2309" y="376"/>
                  <a:pt x="2719" y="177"/>
                  <a:pt x="3184" y="147"/>
                </a:cubicBezTo>
                <a:cubicBezTo>
                  <a:pt x="3645" y="117"/>
                  <a:pt x="4021" y="192"/>
                  <a:pt x="4485" y="192"/>
                </a:cubicBezTo>
                <a:cubicBezTo>
                  <a:pt x="4933" y="192"/>
                  <a:pt x="5740" y="102"/>
                  <a:pt x="6189" y="102"/>
                </a:cubicBezTo>
                <a:cubicBezTo>
                  <a:pt x="6712" y="102"/>
                  <a:pt x="7100" y="58"/>
                  <a:pt x="7624" y="58"/>
                </a:cubicBezTo>
                <a:cubicBezTo>
                  <a:pt x="8147" y="58"/>
                  <a:pt x="8767" y="235"/>
                  <a:pt x="9283" y="147"/>
                </a:cubicBezTo>
                <a:cubicBezTo>
                  <a:pt x="9869" y="47"/>
                  <a:pt x="10311" y="109"/>
                  <a:pt x="10898" y="191"/>
                </a:cubicBezTo>
                <a:cubicBezTo>
                  <a:pt x="11479" y="272"/>
                  <a:pt x="11430" y="0"/>
                  <a:pt x="11929" y="237"/>
                </a:cubicBezTo>
                <a:cubicBezTo>
                  <a:pt x="12400" y="461"/>
                  <a:pt x="12601" y="461"/>
                  <a:pt x="13453" y="1269"/>
                </a:cubicBezTo>
                <a:lnTo>
                  <a:pt x="13409" y="2524"/>
                </a:lnTo>
                <a:lnTo>
                  <a:pt x="13409" y="1493"/>
                </a:lnTo>
                <a:lnTo>
                  <a:pt x="13319" y="1941"/>
                </a:lnTo>
              </a:path>
            </a:pathLst>
          </a:custGeom>
          <a:noFill/>
          <a:ln w="76320">
            <a:solidFill>
              <a:srgbClr val="66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20"/>
          <p:cNvSpPr/>
          <p:nvPr/>
        </p:nvSpPr>
        <p:spPr>
          <a:xfrm>
            <a:off x="2771640" y="1449360"/>
            <a:ext cx="5718240" cy="4826160"/>
          </a:xfrm>
          <a:custGeom>
            <a:avLst/>
            <a:gdLst>
              <a:gd name="textAreaLeft" fmla="*/ 0 w 5718240"/>
              <a:gd name="textAreaRight" fmla="*/ 5718600 w 5718240"/>
              <a:gd name="textAreaTop" fmla="*/ 0 h 4826160"/>
              <a:gd name="textAreaBottom" fmla="*/ 4826160 h 4826160"/>
            </a:gdLst>
            <a:ahLst/>
            <a:rect l="textAreaLeft" t="textAreaTop" r="textAreaRight" b="textAreaBottom"/>
            <a:pathLst>
              <a:path w="15882" h="13406">
                <a:moveTo>
                  <a:pt x="5804" y="6869"/>
                </a:moveTo>
                <a:cubicBezTo>
                  <a:pt x="5310" y="6868"/>
                  <a:pt x="4814" y="6816"/>
                  <a:pt x="4324" y="6869"/>
                </a:cubicBezTo>
                <a:cubicBezTo>
                  <a:pt x="3802" y="6925"/>
                  <a:pt x="3244" y="7004"/>
                  <a:pt x="2844" y="7452"/>
                </a:cubicBezTo>
                <a:cubicBezTo>
                  <a:pt x="2521" y="7814"/>
                  <a:pt x="1968" y="7809"/>
                  <a:pt x="1498" y="7900"/>
                </a:cubicBezTo>
                <a:cubicBezTo>
                  <a:pt x="945" y="8007"/>
                  <a:pt x="485" y="8490"/>
                  <a:pt x="288" y="9022"/>
                </a:cubicBezTo>
                <a:cubicBezTo>
                  <a:pt x="121" y="9472"/>
                  <a:pt x="0" y="9963"/>
                  <a:pt x="108" y="10457"/>
                </a:cubicBezTo>
                <a:cubicBezTo>
                  <a:pt x="231" y="11020"/>
                  <a:pt x="508" y="11452"/>
                  <a:pt x="915" y="11847"/>
                </a:cubicBezTo>
                <a:cubicBezTo>
                  <a:pt x="1298" y="12218"/>
                  <a:pt x="1891" y="12249"/>
                  <a:pt x="2306" y="12564"/>
                </a:cubicBezTo>
                <a:cubicBezTo>
                  <a:pt x="2818" y="12953"/>
                  <a:pt x="3424" y="12670"/>
                  <a:pt x="4010" y="12833"/>
                </a:cubicBezTo>
                <a:cubicBezTo>
                  <a:pt x="4839" y="13064"/>
                  <a:pt x="5684" y="12935"/>
                  <a:pt x="6566" y="13058"/>
                </a:cubicBezTo>
                <a:cubicBezTo>
                  <a:pt x="7286" y="13158"/>
                  <a:pt x="7905" y="13405"/>
                  <a:pt x="8629" y="13327"/>
                </a:cubicBezTo>
                <a:cubicBezTo>
                  <a:pt x="9208" y="13265"/>
                  <a:pt x="9795" y="13327"/>
                  <a:pt x="10378" y="13327"/>
                </a:cubicBezTo>
                <a:cubicBezTo>
                  <a:pt x="10870" y="13327"/>
                  <a:pt x="11366" y="13367"/>
                  <a:pt x="11858" y="13327"/>
                </a:cubicBezTo>
                <a:cubicBezTo>
                  <a:pt x="12403" y="13283"/>
                  <a:pt x="12958" y="13050"/>
                  <a:pt x="13337" y="12654"/>
                </a:cubicBezTo>
                <a:cubicBezTo>
                  <a:pt x="13773" y="12198"/>
                  <a:pt x="14030" y="11619"/>
                  <a:pt x="14279" y="11040"/>
                </a:cubicBezTo>
                <a:cubicBezTo>
                  <a:pt x="14494" y="10540"/>
                  <a:pt x="14692" y="10062"/>
                  <a:pt x="14593" y="9470"/>
                </a:cubicBezTo>
                <a:cubicBezTo>
                  <a:pt x="14512" y="8983"/>
                  <a:pt x="14571" y="8482"/>
                  <a:pt x="14593" y="7990"/>
                </a:cubicBezTo>
                <a:cubicBezTo>
                  <a:pt x="14613" y="7525"/>
                  <a:pt x="14499" y="7042"/>
                  <a:pt x="14728" y="6600"/>
                </a:cubicBezTo>
                <a:cubicBezTo>
                  <a:pt x="14965" y="6142"/>
                  <a:pt x="14776" y="5677"/>
                  <a:pt x="14997" y="5165"/>
                </a:cubicBezTo>
                <a:cubicBezTo>
                  <a:pt x="15206" y="4680"/>
                  <a:pt x="15372" y="4231"/>
                  <a:pt x="15535" y="3730"/>
                </a:cubicBezTo>
                <a:cubicBezTo>
                  <a:pt x="15714" y="3177"/>
                  <a:pt x="15881" y="2613"/>
                  <a:pt x="15759" y="2071"/>
                </a:cubicBezTo>
                <a:cubicBezTo>
                  <a:pt x="15596" y="1350"/>
                  <a:pt x="14562" y="1423"/>
                  <a:pt x="14324" y="725"/>
                </a:cubicBezTo>
                <a:cubicBezTo>
                  <a:pt x="14076" y="0"/>
                  <a:pt x="13344" y="158"/>
                  <a:pt x="12799" y="142"/>
                </a:cubicBezTo>
                <a:cubicBezTo>
                  <a:pt x="12291" y="127"/>
                  <a:pt x="11779" y="80"/>
                  <a:pt x="11275" y="142"/>
                </a:cubicBezTo>
                <a:cubicBezTo>
                  <a:pt x="10699" y="213"/>
                  <a:pt x="10280" y="695"/>
                  <a:pt x="9884" y="1084"/>
                </a:cubicBezTo>
                <a:cubicBezTo>
                  <a:pt x="9436" y="1524"/>
                  <a:pt x="9772" y="2128"/>
                  <a:pt x="9570" y="2654"/>
                </a:cubicBezTo>
                <a:cubicBezTo>
                  <a:pt x="9365" y="3189"/>
                  <a:pt x="9061" y="3680"/>
                  <a:pt x="8987" y="4268"/>
                </a:cubicBezTo>
                <a:cubicBezTo>
                  <a:pt x="8924" y="4769"/>
                  <a:pt x="8516" y="5164"/>
                  <a:pt x="8449" y="5658"/>
                </a:cubicBezTo>
                <a:cubicBezTo>
                  <a:pt x="8364" y="6280"/>
                  <a:pt x="7744" y="6455"/>
                  <a:pt x="7283" y="6510"/>
                </a:cubicBezTo>
                <a:cubicBezTo>
                  <a:pt x="6765" y="6572"/>
                  <a:pt x="6442" y="7118"/>
                  <a:pt x="5893" y="6914"/>
                </a:cubicBezTo>
                <a:lnTo>
                  <a:pt x="5893" y="6869"/>
                </a:lnTo>
                <a:lnTo>
                  <a:pt x="5804" y="6869"/>
                </a:lnTo>
              </a:path>
            </a:pathLst>
          </a:custGeom>
          <a:noFill/>
          <a:ln w="7632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1571760" y="1598760"/>
            <a:ext cx="7159320" cy="4830480"/>
          </a:xfrm>
          <a:prstGeom prst="rect">
            <a:avLst/>
          </a:prstGeom>
          <a:ln w="0">
            <a:noFill/>
          </a:ln>
        </p:spPr>
      </p:pic>
      <p:sp>
        <p:nvSpPr>
          <p:cNvPr id="251" name="Прямая соединительная линия 5"/>
          <p:cNvSpPr/>
          <p:nvPr/>
        </p:nvSpPr>
        <p:spPr>
          <a:xfrm flipV="1">
            <a:off x="4715640" y="3068640"/>
            <a:ext cx="714600" cy="13572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Прямая соединительная линия 6"/>
          <p:cNvSpPr/>
          <p:nvPr/>
        </p:nvSpPr>
        <p:spPr>
          <a:xfrm flipH="1" flipV="1">
            <a:off x="5363640" y="2923920"/>
            <a:ext cx="785880" cy="1571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ямая соединительная линия 8"/>
          <p:cNvSpPr/>
          <p:nvPr/>
        </p:nvSpPr>
        <p:spPr>
          <a:xfrm flipV="1">
            <a:off x="6214320" y="3571920"/>
            <a:ext cx="428760" cy="1000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ая соединительная линия 7"/>
          <p:cNvSpPr/>
          <p:nvPr/>
        </p:nvSpPr>
        <p:spPr>
          <a:xfrm flipH="1" flipV="1">
            <a:off x="6659640" y="3645000"/>
            <a:ext cx="428400" cy="10713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D:\МАМА\клипарт\60d3ea5dcf4d.png"/>
          <p:cNvPicPr/>
          <p:nvPr/>
        </p:nvPicPr>
        <p:blipFill>
          <a:blip r:embed="rId2"/>
          <a:stretch/>
        </p:blipFill>
        <p:spPr>
          <a:xfrm>
            <a:off x="1428840" y="4071960"/>
            <a:ext cx="1832040" cy="2232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Documents and Settings\Admin\Рабочий стол\405839021.jpg"/>
          <p:cNvPicPr/>
          <p:nvPr/>
        </p:nvPicPr>
        <p:blipFill>
          <a:blip r:embed="rId3"/>
          <a:stretch/>
        </p:blipFill>
        <p:spPr>
          <a:xfrm>
            <a:off x="4071960" y="3782880"/>
            <a:ext cx="1886040" cy="18147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8"/>
          <p:cNvSpPr/>
          <p:nvPr/>
        </p:nvSpPr>
        <p:spPr>
          <a:xfrm>
            <a:off x="3000240" y="214200"/>
            <a:ext cx="614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На улице Сюрприз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0" y="-3168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1619280" y="333360"/>
            <a:ext cx="66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 улице сюрпризов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Documents and Settings\Admin\Рабочий стол\Рисунок1.jpg"/>
          <p:cNvPicPr/>
          <p:nvPr/>
        </p:nvPicPr>
        <p:blipFill>
          <a:blip r:embed="rId2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1643040" y="1143000"/>
            <a:ext cx="3786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Горо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Century Gothic"/>
              </a:rPr>
              <a:t>Геомет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 rot="2878800">
            <a:off x="990360" y="2473560"/>
            <a:ext cx="1101600" cy="911160"/>
          </a:xfrm>
          <a:prstGeom prst="rect">
            <a:avLst/>
          </a:prstGeom>
          <a:solidFill>
            <a:srgbClr val="6600cc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Трапеция 4"/>
          <p:cNvSpPr/>
          <p:nvPr/>
        </p:nvSpPr>
        <p:spPr>
          <a:xfrm>
            <a:off x="2000160" y="3143160"/>
            <a:ext cx="1143000" cy="1214640"/>
          </a:xfrm>
          <a:custGeom>
            <a:avLst/>
            <a:gdLst>
              <a:gd name="textAreaLeft" fmla="*/ 190440 w 1143000"/>
              <a:gd name="textAreaRight" fmla="*/ 952560 w 1143000"/>
              <a:gd name="textAreaTop" fmla="*/ 202320 h 1214640"/>
              <a:gd name="textAreaBottom" fmla="*/ 1215000 h 1214640"/>
            </a:gdLst>
            <a:ahLst/>
            <a:rect l="textAreaLeft" t="textAreaTop" r="textAreaRight" b="textAreaBottom"/>
            <a:pathLst>
              <a:path w="1143000" h="1214438">
                <a:moveTo>
                  <a:pt x="0" y="1214438"/>
                </a:moveTo>
                <a:lnTo>
                  <a:pt x="285750" y="0"/>
                </a:lnTo>
                <a:lnTo>
                  <a:pt x="857250" y="0"/>
                </a:lnTo>
                <a:lnTo>
                  <a:pt x="1143000" y="1214438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Шестиугольник 5"/>
          <p:cNvSpPr/>
          <p:nvPr/>
        </p:nvSpPr>
        <p:spPr>
          <a:xfrm>
            <a:off x="2500200" y="4500720"/>
            <a:ext cx="1214640" cy="1143000"/>
          </a:xfrm>
          <a:prstGeom prst="hexagon">
            <a:avLst>
              <a:gd name="adj" fmla="val 25002"/>
              <a:gd name="vf" fmla="val 115470"/>
            </a:avLst>
          </a:prstGeom>
          <a:solidFill>
            <a:srgbClr val="c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Ромб 6"/>
          <p:cNvSpPr/>
          <p:nvPr/>
        </p:nvSpPr>
        <p:spPr>
          <a:xfrm>
            <a:off x="3143160" y="2857680"/>
            <a:ext cx="1285920" cy="1214280"/>
          </a:xfrm>
          <a:prstGeom prst="diamond">
            <a:avLst/>
          </a:prstGeom>
          <a:solidFill>
            <a:srgbClr val="00b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Равнобедренный треугольник 7"/>
          <p:cNvSpPr/>
          <p:nvPr/>
        </p:nvSpPr>
        <p:spPr>
          <a:xfrm>
            <a:off x="4500720" y="2714760"/>
            <a:ext cx="1000080" cy="78552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Соединительная линия уступом 9"/>
          <p:cNvCxnSpPr/>
          <p:nvPr/>
        </p:nvCxnSpPr>
        <p:spPr>
          <a:xfrm flipV="1" rot="10800000">
            <a:off x="3928320" y="3856680"/>
            <a:ext cx="1643760" cy="572040"/>
          </a:xfrm>
          <a:prstGeom prst="bentConnector3">
            <a:avLst>
              <a:gd name="adj1" fmla="val 49989"/>
            </a:avLst>
          </a:prstGeom>
          <a:ln w="76320">
            <a:solidFill>
              <a:srgbClr val="2f2f98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WordArt 7"/>
          <p:cNvSpPr txBox="1"/>
          <p:nvPr/>
        </p:nvSpPr>
        <p:spPr>
          <a:xfrm>
            <a:off x="1928880" y="1071720"/>
            <a:ext cx="6019560" cy="1185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пасибо за урок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261" name="Picture 2" descr="D:\картинки\детские картинки-блестяшки анимашки\mult41.jpg"/>
          <p:cNvPicPr/>
          <p:nvPr/>
        </p:nvPicPr>
        <p:blipFill>
          <a:blip r:embed="rId2"/>
          <a:stretch/>
        </p:blipFill>
        <p:spPr>
          <a:xfrm>
            <a:off x="1133640" y="1494000"/>
            <a:ext cx="2773080" cy="437040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4"/>
          <p:cNvSpPr/>
          <p:nvPr/>
        </p:nvSpPr>
        <p:spPr>
          <a:xfrm>
            <a:off x="3857760" y="1928880"/>
            <a:ext cx="47862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entury Gothic"/>
              </a:rPr>
              <a:t>Ребята, позаботьтесь о себе сам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7030a0"/>
                </a:solidFill>
                <a:latin typeface="Century Gothic"/>
              </a:rPr>
              <a:t>Будьте внимательны на дорогах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"/>
          <p:cNvPicPr/>
          <p:nvPr/>
        </p:nvPicPr>
        <p:blipFill>
          <a:blip r:embed="rId2"/>
          <a:stretch/>
        </p:blipFill>
        <p:spPr>
          <a:xfrm>
            <a:off x="3071880" y="642960"/>
            <a:ext cx="4143240" cy="5433840"/>
          </a:xfrm>
          <a:prstGeom prst="rect">
            <a:avLst/>
          </a:prstGeom>
          <a:ln w="76320">
            <a:solidFill>
              <a:srgbClr val="009900"/>
            </a:solidFill>
            <a:miter/>
          </a:ln>
        </p:spPr>
      </p:pic>
      <p:pic>
        <p:nvPicPr>
          <p:cNvPr id="59" name="Picture 2" descr="D:\картинки\детские картинки-блестяшки анимашки\mult41.jpg"/>
          <p:cNvPicPr/>
          <p:nvPr/>
        </p:nvPicPr>
        <p:blipFill>
          <a:blip r:embed="rId3"/>
          <a:stretch/>
        </p:blipFill>
        <p:spPr>
          <a:xfrm>
            <a:off x="1279440" y="1066680"/>
            <a:ext cx="277488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2571840" y="1071720"/>
            <a:ext cx="472428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"/>
          <p:cNvSpPr/>
          <p:nvPr/>
        </p:nvSpPr>
        <p:spPr>
          <a:xfrm flipV="1">
            <a:off x="4786200" y="1071720"/>
            <a:ext cx="2438640" cy="21333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4714560" y="1071720"/>
            <a:ext cx="2514600" cy="472428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4714920" y="3143160"/>
            <a:ext cx="152280" cy="15264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4643280" y="5643720"/>
            <a:ext cx="15264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9"/>
          <p:cNvSpPr/>
          <p:nvPr/>
        </p:nvSpPr>
        <p:spPr>
          <a:xfrm>
            <a:off x="7143840" y="100008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"/>
          <p:cNvPicPr/>
          <p:nvPr/>
        </p:nvPicPr>
        <p:blipFill>
          <a:blip r:embed="rId2"/>
          <a:stretch/>
        </p:blipFill>
        <p:spPr>
          <a:xfrm rot="7451400">
            <a:off x="3909960" y="1855800"/>
            <a:ext cx="38736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картинки\детские картинки-блестяшки анимашки\mult41.jpg"/>
          <p:cNvPicPr/>
          <p:nvPr/>
        </p:nvPicPr>
        <p:blipFill>
          <a:blip r:embed="rId3"/>
          <a:stretch/>
        </p:blipFill>
        <p:spPr>
          <a:xfrm>
            <a:off x="633240" y="1133640"/>
            <a:ext cx="2775240" cy="43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5578E-006 L 0.26458 -0.31683 E">
                                      <p:cBhvr>
                                        <p:cTn id="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6458 -0.31683 L -0.01042 0.38252 E">
                                      <p:cBhvr>
                                        <p:cTn id="9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500200" y="1000080"/>
            <a:ext cx="4724640" cy="472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rc 10"/>
          <p:cNvSpPr/>
          <p:nvPr/>
        </p:nvSpPr>
        <p:spPr>
          <a:xfrm flipH="1" flipV="1" rot="1133400">
            <a:off x="5446800" y="1058400"/>
            <a:ext cx="1600200" cy="213516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2135160"/>
              <a:gd name="textAreaBottom" fmla="*/ 2135160 h 2135160"/>
            </a:gdLst>
            <a:ahLst/>
            <a:rect l="textAreaLeft" t="textAreaTop" r="textAreaRight" b="textAreaBottom"/>
            <a:pathLst>
              <a:path fill="none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</a:path>
              <a:path stroke="0" w="43200" h="43200">
                <a:moveTo>
                  <a:pt x="25163" y="296"/>
                </a:moveTo>
                <a:cubicBezTo>
                  <a:pt x="35573" y="2037"/>
                  <a:pt x="43200" y="11046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1880" y="-1"/>
                  <a:pt x="22160" y="5"/>
                  <a:pt x="22440" y="16"/>
                </a:cubicBezTo>
                <a:lnTo>
                  <a:pt x="21600" y="2160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5571720" y="3000240"/>
            <a:ext cx="500040" cy="21456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rc 13"/>
          <p:cNvSpPr/>
          <p:nvPr/>
        </p:nvSpPr>
        <p:spPr>
          <a:xfrm flipH="1" rot="1208400">
            <a:off x="4322880" y="2999880"/>
            <a:ext cx="2133360" cy="2664000"/>
          </a:xfrm>
          <a:custGeom>
            <a:avLst/>
            <a:gdLst>
              <a:gd name="textAreaLeft" fmla="*/ 360 w 2133360"/>
              <a:gd name="textAreaRight" fmla="*/ 2134080 w 2133360"/>
              <a:gd name="textAreaTop" fmla="*/ 0 h 2664000"/>
              <a:gd name="textAreaBottom" fmla="*/ 2664360 h 2664000"/>
            </a:gdLst>
            <a:ahLst/>
            <a:rect l="textAreaLeft" t="textAreaTop" r="textAreaRight" b="textAreaBottom"/>
            <a:pathLst>
              <a:path fill="none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</a:path>
              <a:path stroke="0" w="43200" h="43093">
                <a:moveTo>
                  <a:pt x="25395" y="229"/>
                </a:moveTo>
                <a:cubicBezTo>
                  <a:pt x="35698" y="2068"/>
                  <a:pt x="43200" y="11027"/>
                  <a:pt x="43200" y="21493"/>
                </a:cubicBezTo>
                <a:cubicBezTo>
                  <a:pt x="43200" y="33422"/>
                  <a:pt x="33529" y="43093"/>
                  <a:pt x="21600" y="43093"/>
                </a:cubicBezTo>
                <a:cubicBezTo>
                  <a:pt x="9670" y="43093"/>
                  <a:pt x="0" y="33422"/>
                  <a:pt x="0" y="21493"/>
                </a:cubicBezTo>
                <a:cubicBezTo>
                  <a:pt x="-1" y="10395"/>
                  <a:pt x="8409" y="1103"/>
                  <a:pt x="19452" y="0"/>
                </a:cubicBezTo>
                <a:lnTo>
                  <a:pt x="21600" y="21493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3"/>
          <p:cNvSpPr/>
          <p:nvPr/>
        </p:nvSpPr>
        <p:spPr>
          <a:xfrm>
            <a:off x="5715000" y="1285920"/>
            <a:ext cx="152280" cy="152280"/>
          </a:xfrm>
          <a:prstGeom prst="ellipse">
            <a:avLst/>
          </a:prstGeom>
          <a:solidFill>
            <a:srgbClr val="f315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 rot="7451400">
            <a:off x="4909680" y="-1440"/>
            <a:ext cx="38736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D:\картинки\детские картинки-блестяшки анимашки\mult41.jpg"/>
          <p:cNvPicPr/>
          <p:nvPr/>
        </p:nvPicPr>
        <p:blipFill>
          <a:blip r:embed="rId3"/>
          <a:stretch/>
        </p:blipFill>
        <p:spPr>
          <a:xfrm>
            <a:off x="920880" y="1206360"/>
            <a:ext cx="27730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37 0.00902 C 0.01805 -0.00439 0.0276 -0.02266 0.04045 -0.03237 C 0.0533 -0.04209 0.07222 -0.05041 0.0868 -0.04926 C 0.10139 -0.0481 0.11649 -0.03792 0.12777 -0.02474 C 0.13906 -0.01156 0.1493 0.0081 0.15451 0.02961 C 0.15972 0.05111 0.15937 0.08395 0.15868 0.10454 C 0.15798 0.12512 0.15677 0.13437 0.15017 0.15333 C 0.14357 0.1723 0.13211 0.20213 0.11927 0.21901 C 0.10642 0.2359 0.08958 0.24931 0.07274 0.25463 C 0.0559 0.25995 0.03472 0.2507 0.01788 0.25093 C 0.00104 0.25116 -0.01077 0.24607 -0.02865 0.25671 C -0.04653 0.26735 -0.0724 0.28724 -0.08924 0.31476 C -0.10608 0.34228 -0.12466 0.38298 -0.13004 0.42184 C -0.13542 0.46069 -0.12969 0.51596 -0.12153 0.54741 C -0.11337 0.57887 -0.09688 0.59667 -0.08073 0.61124 C -0.06459 0.62581 -0.04584 0.63738 -0.02448 0.63553 C -0.00313 0.63368 0.02812 0.61864 0.04739 0.59991 C 0.06666 0.58118 0.08038 0.55666 0.09114 0.52313 C 0.10191 0.4896 0.11441 0.43895 0.11215 0.39917 C 0.10989 0.35939 0.09166 0.30921 0.07708 0.28469 C 0.0625 0.26018 0.03836 0.26295 0.02482 0.25278 C 0.01128 0.2426 0.00295 0.2396 -0.00469 0.22295 C -0.01233 0.20629 -0.01841 0.17369 -0.02153 0.15333 C -0.02466 0.13298 -0.02448 0.11841 -0.02292 0.10084 C -0.02136 0.08326 -0.01719 0.06337 -0.01181 0.04834 C -0.00643 0.03331 0.00069 0.02244 0.00937 0.00902 Z">
                                      <p:cBhvr>
                                        <p:cTn id="15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2"/>
          <p:cNvSpPr/>
          <p:nvPr/>
        </p:nvSpPr>
        <p:spPr>
          <a:xfrm>
            <a:off x="2643120" y="0"/>
            <a:ext cx="6500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Century Schoolbook"/>
              </a:rPr>
              <a:t>Улица Реш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D:\картинки\детские картинки-блестяшки анимашки\11abbf1373b4.png"/>
          <p:cNvPicPr/>
          <p:nvPr/>
        </p:nvPicPr>
        <p:blipFill>
          <a:blip r:embed="rId2"/>
          <a:stretch/>
        </p:blipFill>
        <p:spPr>
          <a:xfrm>
            <a:off x="857160" y="3286080"/>
            <a:ext cx="1521000" cy="2527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s53.radikal.ru/i142/0905/4c/2552f6ee2e91.png"/>
          <p:cNvPicPr/>
          <p:nvPr/>
        </p:nvPicPr>
        <p:blipFill>
          <a:blip r:embed="rId3"/>
          <a:stretch/>
        </p:blipFill>
        <p:spPr>
          <a:xfrm>
            <a:off x="7500960" y="3143160"/>
            <a:ext cx="1857240" cy="2071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viki\AppData\Local\Microsoft\Windows\Temporary Internet Files\Content.IE5\6NZXK4SD\MCj04382310000[1].wmf"/>
          <p:cNvPicPr/>
          <p:nvPr/>
        </p:nvPicPr>
        <p:blipFill>
          <a:blip r:embed="rId4"/>
          <a:stretch/>
        </p:blipFill>
        <p:spPr>
          <a:xfrm>
            <a:off x="0" y="3857760"/>
            <a:ext cx="857160" cy="1079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252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932360" y="404640"/>
            <a:ext cx="3816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лица Решайка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000240" y="214200"/>
            <a:ext cx="55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Улица Смек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D:\МАМА\клипарт\d7319881604b.png"/>
          <p:cNvPicPr/>
          <p:nvPr/>
        </p:nvPicPr>
        <p:blipFill>
          <a:blip r:embed="rId3"/>
          <a:stretch/>
        </p:blipFill>
        <p:spPr>
          <a:xfrm>
            <a:off x="1428840" y="3500280"/>
            <a:ext cx="1143000" cy="1673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D:\картинки\детские картинки-блестяшки анимашки\11abbf1373b4.png"/>
          <p:cNvPicPr/>
          <p:nvPr/>
        </p:nvPicPr>
        <p:blipFill>
          <a:blip r:embed="rId4"/>
          <a:stretch/>
        </p:blipFill>
        <p:spPr>
          <a:xfrm>
            <a:off x="7286760" y="3429000"/>
            <a:ext cx="1596960" cy="2244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Admin\Рабочий стол\светофор111528.gif"/>
          <p:cNvPicPr/>
          <p:nvPr/>
        </p:nvPicPr>
        <p:blipFill>
          <a:blip r:embed="rId5"/>
          <a:stretch/>
        </p:blipFill>
        <p:spPr>
          <a:xfrm>
            <a:off x="7340760" y="1143000"/>
            <a:ext cx="1803240" cy="2405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D:\МАМА\клипарт\full\EDUCATION\EDCATION1\ED0493.WMF"/>
          <p:cNvPicPr/>
          <p:nvPr/>
        </p:nvPicPr>
        <p:blipFill>
          <a:blip r:embed="rId6"/>
          <a:stretch/>
        </p:blipFill>
        <p:spPr>
          <a:xfrm>
            <a:off x="6643800" y="3000240"/>
            <a:ext cx="1271520" cy="24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1" descr="C:\Documents and Settings\Admin\Рабочий стол\Рисунок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8" name="Овал 3"/>
          <p:cNvGrpSpPr/>
          <p:nvPr/>
        </p:nvGrpSpPr>
        <p:grpSpPr>
          <a:xfrm>
            <a:off x="3084480" y="2109960"/>
            <a:ext cx="2468520" cy="2176200"/>
            <a:chOff x="3084480" y="2109960"/>
            <a:chExt cx="2468520" cy="2176200"/>
          </a:xfrm>
        </p:grpSpPr>
        <p:pic>
          <p:nvPicPr>
            <p:cNvPr id="89" name="Овал 3" descr=""/>
            <p:cNvPicPr/>
            <p:nvPr/>
          </p:nvPicPr>
          <p:blipFill>
            <a:blip r:embed="rId3"/>
            <a:stretch/>
          </p:blipFill>
          <p:spPr>
            <a:xfrm>
              <a:off x="3084480" y="2109960"/>
              <a:ext cx="24685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487680" y="2446200"/>
              <a:ext cx="1668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Блок-схема: решение 10"/>
          <p:cNvSpPr/>
          <p:nvPr/>
        </p:nvSpPr>
        <p:spPr>
          <a:xfrm rot="166200">
            <a:off x="3786120" y="714240"/>
            <a:ext cx="1428840" cy="22147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решение 12"/>
          <p:cNvSpPr/>
          <p:nvPr/>
        </p:nvSpPr>
        <p:spPr>
          <a:xfrm rot="20107800">
            <a:off x="4637160" y="1622160"/>
            <a:ext cx="2273400" cy="14936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решение 13"/>
          <p:cNvSpPr/>
          <p:nvPr/>
        </p:nvSpPr>
        <p:spPr>
          <a:xfrm rot="1724400">
            <a:off x="4483080" y="3081240"/>
            <a:ext cx="2178000" cy="137952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решение 14"/>
          <p:cNvSpPr/>
          <p:nvPr/>
        </p:nvSpPr>
        <p:spPr>
          <a:xfrm rot="1883400">
            <a:off x="2035080" y="1599840"/>
            <a:ext cx="2241720" cy="13176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решение 15"/>
          <p:cNvSpPr/>
          <p:nvPr/>
        </p:nvSpPr>
        <p:spPr>
          <a:xfrm rot="19920000">
            <a:off x="2068560" y="2838240"/>
            <a:ext cx="2097000" cy="14223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решение 16"/>
          <p:cNvSpPr/>
          <p:nvPr/>
        </p:nvSpPr>
        <p:spPr>
          <a:xfrm>
            <a:off x="3571920" y="3357720"/>
            <a:ext cx="1500120" cy="20001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8"/>
          <p:cNvSpPr/>
          <p:nvPr/>
        </p:nvSpPr>
        <p:spPr>
          <a:xfrm>
            <a:off x="214200" y="57168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2"/>
          <p:cNvSpPr/>
          <p:nvPr/>
        </p:nvSpPr>
        <p:spPr>
          <a:xfrm>
            <a:off x="214200" y="128592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4"/>
          <p:cNvSpPr/>
          <p:nvPr/>
        </p:nvSpPr>
        <p:spPr>
          <a:xfrm>
            <a:off x="214200" y="214308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6"/>
          <p:cNvSpPr/>
          <p:nvPr/>
        </p:nvSpPr>
        <p:spPr>
          <a:xfrm>
            <a:off x="285840" y="3000240"/>
            <a:ext cx="428400" cy="35748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28"/>
          <p:cNvSpPr/>
          <p:nvPr/>
        </p:nvSpPr>
        <p:spPr>
          <a:xfrm>
            <a:off x="285840" y="3857760"/>
            <a:ext cx="42840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357120" y="4714920"/>
            <a:ext cx="428760" cy="357120"/>
          </a:xfrm>
          <a:prstGeom prst="rect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714760" y="5357880"/>
          <a:ext cx="6095880" cy="1285920"/>
        </p:xfrm>
        <a:graphic>
          <a:graphicData uri="http://schemas.openxmlformats.org/drawingml/2006/table">
            <a:tbl>
              <a:tblPr/>
              <a:tblGrid>
                <a:gridCol w="871560"/>
                <a:gridCol w="869760"/>
                <a:gridCol w="871560"/>
                <a:gridCol w="870120"/>
                <a:gridCol w="871200"/>
                <a:gridCol w="870120"/>
                <a:gridCol w="871560"/>
              </a:tblGrid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104" name="Овал 38"/>
          <p:cNvSpPr/>
          <p:nvPr/>
        </p:nvSpPr>
        <p:spPr>
          <a:xfrm>
            <a:off x="5715000" y="1857240"/>
            <a:ext cx="714240" cy="6429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39"/>
          <p:cNvSpPr/>
          <p:nvPr/>
        </p:nvSpPr>
        <p:spPr>
          <a:xfrm>
            <a:off x="4143240" y="1214280"/>
            <a:ext cx="776520" cy="63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41"/>
          <p:cNvSpPr/>
          <p:nvPr/>
        </p:nvSpPr>
        <p:spPr>
          <a:xfrm>
            <a:off x="2500200" y="1785960"/>
            <a:ext cx="776520" cy="63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42"/>
          <p:cNvSpPr/>
          <p:nvPr/>
        </p:nvSpPr>
        <p:spPr>
          <a:xfrm>
            <a:off x="2571840" y="3429000"/>
            <a:ext cx="776160" cy="63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43"/>
          <p:cNvSpPr/>
          <p:nvPr/>
        </p:nvSpPr>
        <p:spPr>
          <a:xfrm>
            <a:off x="3929040" y="4286160"/>
            <a:ext cx="776160" cy="633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44"/>
          <p:cNvSpPr/>
          <p:nvPr/>
        </p:nvSpPr>
        <p:spPr>
          <a:xfrm>
            <a:off x="5500800" y="3571920"/>
            <a:ext cx="776160" cy="63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45"/>
          <p:cNvSpPr/>
          <p:nvPr/>
        </p:nvSpPr>
        <p:spPr>
          <a:xfrm>
            <a:off x="7143840" y="6000840"/>
            <a:ext cx="776160" cy="633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Arial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C:\Documents and Settings\Admin\Рабочий стол\светофор111528.gif"/>
          <p:cNvPicPr/>
          <p:nvPr/>
        </p:nvPicPr>
        <p:blipFill>
          <a:blip r:embed="rId4"/>
          <a:stretch/>
        </p:blipFill>
        <p:spPr>
          <a:xfrm>
            <a:off x="7340760" y="1143000"/>
            <a:ext cx="1803240" cy="24051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25"/>
          <p:cNvSpPr/>
          <p:nvPr/>
        </p:nvSpPr>
        <p:spPr>
          <a:xfrm>
            <a:off x="4078800" y="142920"/>
            <a:ext cx="4693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Arial"/>
              </a:rPr>
              <a:t>Улица Смекай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D:\картинки\детские картинки-блестяшки анимашки\11abbf1373b4.png"/>
          <p:cNvPicPr/>
          <p:nvPr/>
        </p:nvPicPr>
        <p:blipFill>
          <a:blip r:embed="rId5"/>
          <a:stretch/>
        </p:blipFill>
        <p:spPr>
          <a:xfrm>
            <a:off x="6643800" y="3357720"/>
            <a:ext cx="1596960" cy="2244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D:\МАМА\клипарт\d7319881604b.png"/>
          <p:cNvPicPr/>
          <p:nvPr/>
        </p:nvPicPr>
        <p:blipFill>
          <a:blip r:embed="rId6"/>
          <a:stretch/>
        </p:blipFill>
        <p:spPr>
          <a:xfrm>
            <a:off x="1214280" y="3500280"/>
            <a:ext cx="1143000" cy="167328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13264 0.58148 E">
                                      <p:cBhvr>
                                        <p:cTn id="2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94 0.03797 L 0.29445 0.35278 E">
                                      <p:cBhvr>
                                        <p:cTn id="39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1.85185E-006 L 0.41406 0.68634 E">
                                      <p:cBhvr>
                                        <p:cTn id="57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75 0.04954 L 0.25625 0.22801 E">
                                      <p:cBhvr>
                                        <p:cTn id="6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4861 L -0.31718 0.34259 E">
                                      <p:cBhvr>
                                        <p:cTn id="79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253 0.04653 L 0.11337 0.59259 E">
                                      <p:cBhvr>
                                        <p:cTn id="9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28920" y="1496880"/>
            <a:ext cx="40003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фон1"/>
          <p:cNvPicPr/>
          <p:nvPr/>
        </p:nvPicPr>
        <p:blipFill>
          <a:blip r:embed="rId2"/>
          <a:stretch/>
        </p:blipFill>
        <p:spPr>
          <a:xfrm>
            <a:off x="1785960" y="1071720"/>
            <a:ext cx="5495760" cy="4743360"/>
          </a:xfrm>
          <a:prstGeom prst="rect">
            <a:avLst/>
          </a:prstGeom>
          <a:ln w="0">
            <a:noFill/>
          </a:ln>
        </p:spPr>
      </p:pic>
      <p:pic>
        <p:nvPicPr>
          <p:cNvPr id="117" name="Прямоугольник 3" descr=""/>
          <p:cNvPicPr/>
          <p:nvPr/>
        </p:nvPicPr>
        <p:blipFill>
          <a:blip r:embed="rId3"/>
          <a:stretch/>
        </p:blipFill>
        <p:spPr>
          <a:xfrm>
            <a:off x="1859040" y="1158840"/>
            <a:ext cx="496260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5:43:39Z</dcterms:created>
  <dc:creator>user</dc:creator>
  <dc:description/>
  <dc:language>en-US</dc:language>
  <cp:lastModifiedBy>Adel</cp:lastModifiedBy>
  <dcterms:modified xsi:type="dcterms:W3CDTF">2014-05-22T21:07:17Z</dcterms:modified>
  <cp:revision>78</cp:revision>
  <dc:subject/>
  <dc:title>Слайд 1</dc:title>
</cp:coreProperties>
</file>